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13.wmf" ContentType="image/x-wmf"/>
  <Override PartName="/ppt/media/image49.png" ContentType="image/png"/>
  <Override PartName="/ppt/media/image48.png" ContentType="image/png"/>
  <Override PartName="/ppt/media/image46.wmf" ContentType="image/x-wmf"/>
  <Override PartName="/ppt/media/image45.wmf" ContentType="image/x-wmf"/>
  <Override PartName="/ppt/media/image44.png" ContentType="image/png"/>
  <Override PartName="/ppt/media/image29.png" ContentType="image/png"/>
  <Override PartName="/ppt/media/image32.wmf" ContentType="image/x-wmf"/>
  <Override PartName="/ppt/media/image5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15.wmf" ContentType="image/x-wmf"/>
  <Override PartName="/ppt/media/image11.wmf" ContentType="image/x-wmf"/>
  <Override PartName="/ppt/media/image54.png" ContentType="image/png"/>
  <Override PartName="/ppt/media/image5.jpeg" ContentType="image/jpeg"/>
  <Override PartName="/ppt/media/image61.png" ContentType="image/png"/>
  <Override PartName="/ppt/media/image16.wmf" ContentType="image/x-wmf"/>
  <Override PartName="/ppt/media/image59.png" ContentType="image/png"/>
  <Override PartName="/ppt/media/image22.png" ContentType="image/png"/>
  <Override PartName="/ppt/media/image17.png" ContentType="image/png"/>
  <Override PartName="/ppt/media/image18.wmf" ContentType="image/x-wmf"/>
  <Override PartName="/ppt/media/image20.png" ContentType="image/png"/>
  <Override PartName="/ppt/media/image66.wmf" ContentType="image/x-wmf"/>
  <Override PartName="/ppt/media/image65.wmf" ContentType="image/x-wmf"/>
  <Override PartName="/ppt/media/image62.png" ContentType="image/png"/>
  <Override PartName="/ppt/media/image63.wmf" ContentType="image/x-wmf"/>
  <Override PartName="/ppt/media/image23.png" ContentType="image/png"/>
  <Override PartName="/ppt/media/image26.wmf" ContentType="image/x-wmf"/>
  <Override PartName="/ppt/media/image24.wmf" ContentType="image/x-wmf"/>
  <Override PartName="/ppt/media/image64.wmf" ContentType="image/x-wmf"/>
  <Override PartName="/ppt/media/image27.wmf" ContentType="image/x-wmf"/>
  <Override PartName="/ppt/media/image25.wmf" ContentType="image/x-wmf"/>
  <Override PartName="/ppt/media/image60.png" ContentType="image/png"/>
  <Override PartName="/ppt/media/image57.png" ContentType="image/png"/>
  <Override PartName="/ppt/media/image14.wmf" ContentType="image/x-wmf"/>
  <Override PartName="/ppt/media/image6.png" ContentType="image/png"/>
  <Override PartName="/ppt/media/image36.png" ContentType="image/png"/>
  <Override PartName="/ppt/media/image2.png" ContentType="image/png"/>
  <Override PartName="/ppt/media/image8.wmf" ContentType="image/x-wmf"/>
  <Override PartName="/ppt/media/image40.png" ContentType="image/png"/>
  <Override PartName="/ppt/media/image53.png" ContentType="image/png"/>
  <Override PartName="/ppt/media/image10.wmf" ContentType="image/x-wmf"/>
  <Override PartName="/ppt/media/image7.wmf" ContentType="image/x-wmf"/>
  <Override PartName="/ppt/media/image55.png" ContentType="image/png"/>
  <Override PartName="/ppt/media/image12.wmf" ContentType="image/x-wmf"/>
  <Override PartName="/ppt/media/image4.jpeg" ContentType="image/jpeg"/>
  <Override PartName="/ppt/media/image51.png" ContentType="image/png"/>
  <Override PartName="/ppt/media/image9.png" ContentType="image/png"/>
  <Override PartName="/ppt/media/image39.png" ContentType="image/png"/>
  <Override PartName="/ppt/media/image42.wmf" ContentType="image/x-wmf"/>
  <Override PartName="/ppt/media/image28.png" ContentType="image/png"/>
  <Override PartName="/ppt/media/image52.png" ContentType="image/png"/>
  <Override PartName="/ppt/media/image3.png" ContentType="image/png"/>
  <Override PartName="/ppt/media/image30.wmf" ContentType="image/x-wmf"/>
  <Override PartName="/ppt/media/image31.png" ContentType="image/png"/>
  <Override PartName="/ppt/media/image33.wmf" ContentType="image/x-wmf"/>
  <Override PartName="/ppt/media/image34.jpeg" ContentType="image/jpeg"/>
  <Override PartName="/ppt/media/image37.png" ContentType="image/png"/>
  <Override PartName="/ppt/media/image35.png" ContentType="image/png"/>
  <Override PartName="/ppt/media/image38.png" ContentType="image/png"/>
  <Override PartName="/ppt/media/image19.png" ContentType="image/png"/>
  <Override PartName="/ppt/media/image41.wmf" ContentType="image/x-wmf"/>
  <Override PartName="/ppt/media/image4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46B-2A03-404C-857D-D7F38200E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gnize the problem and state it clear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ing the observ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236520"/>
                <a:tab algn="l" pos="473040"/>
                <a:tab algn="l" pos="709560"/>
                <a:tab algn="l" pos="946080"/>
                <a:tab algn="l" pos="1182600"/>
                <a:tab algn="l" pos="1419120"/>
                <a:tab algn="l" pos="1655640"/>
                <a:tab algn="l" pos="1892160"/>
                <a:tab algn="l" pos="2128680"/>
                <a:tab algn="l" pos="2365200"/>
                <a:tab algn="l" pos="2602080"/>
                <a:tab algn="l" pos="2838600"/>
                <a:tab algn="l" pos="3075120"/>
                <a:tab algn="l" pos="3311640"/>
                <a:tab algn="l" pos="3548160"/>
                <a:tab algn="l" pos="3784680"/>
                <a:tab algn="l" pos="4021200"/>
                <a:tab algn="l" pos="4257720"/>
                <a:tab algn="l" pos="4494240"/>
                <a:tab algn="l" pos="47307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.e., there is a ball of fire in the sk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E635-538D-498A-8241-9E48998BC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2E8A-2092-46DD-9635-E17148E50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6DE-87A0-43A2-BB28-778FE287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970-744D-46E9-91B0-5F1C2D758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5862-8D80-4A02-9305-929D38524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AFCB3-482B-4D1A-8A6F-40C6C00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0AA5A-AFDB-48F5-8C5D-8D1C87736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C026F-68F7-4782-A98C-DDB8E9B4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DE12-468A-43DC-B472-4051F9FD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ED56-9D8A-4A6E-B6F8-8D2A858B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6ACD-6668-484B-A863-32480A9CB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B8BB-F556-456E-89A0-90255A0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4F6E-7CC6-404C-83DC-547D084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84C7-DBBD-4C0A-9C44-11954ACD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E707-6A34-451C-A497-00EA251EC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3AE8B-5A13-424B-AEB2-5CAD1ADC2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8577-ABDB-455C-A554-F7D3C73B4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EA5B0D-6173-4645-97A3-3E002B46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F8BA7-5AFC-47A0-9EB8-6A814468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95C34-B37F-47B4-BF3C-9B951303A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B49A7-CECA-4857-A8F2-B409DF51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C63550-72A3-4824-A314-BB3BDDF9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22DD-7B7A-44E9-8FAA-481EB10B0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73FF4-40FE-440D-937D-906E2EA0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93C2-F686-4D08-8D7A-B6EEDD67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70A931-144D-4544-92B4-96051B04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BA8B8-04A9-48DF-AEB1-4D23C4BD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10679-C253-44E6-8D28-552DF4B94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13080-3F52-4305-974E-746B6B3D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AFFA29-8022-4966-8A65-E46F73E6F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3BE8F-240C-4E15-B8EF-FCE25276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E053E-05E3-4681-AC99-56A16C7A7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E40F7-E679-44E3-88BA-33002427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903F-BA79-4182-9073-F56C073DF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6EA8-2F14-4160-A508-BAD2A17F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FAD6A-4A82-44CF-AE9E-8EA7657E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046C6-117E-4EAA-9892-681A81A7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C1E5E-92C1-4E25-960D-213CF2B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8662C-3383-472A-88C4-696727D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63E41-9059-4E33-871F-32BABD8A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4FE9-9C88-43B3-9BCF-8BFF04ABD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98920-CEF3-483F-9AC2-E24EB8E18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88391-DD95-4D5C-902F-2D477840E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8D9C-18AD-47C6-BD59-2AE1276A7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55FC-5788-4EA8-9B62-16B4C132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1E1-8E92-466D-A033-75AA06F84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1E3B-4CA6-476C-8DF0-847F7AD42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F4DC-764D-4CF8-BA35-98A861A3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7071-9AD7-40A6-A5E0-1AEED02B4011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8C1A-8B0A-40C9-8DA1-4FFDD6A68E9F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DCB1-F061-437F-9F48-A3EB77C8435A}" type="slidenum">
              <a:rPr b="0" lang="en-U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949-0DB1-443A-815F-3FA0E0168BD0}" type="slidenum">
              <a:rPr b="0" lang="en-U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5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6.wmf"/><Relationship Id="rId7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5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6.wmf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182520" y="822240"/>
            <a:ext cx="868680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асену концентрацију 37% раствора сумпорне киселине ако je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L тог раствора1280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=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73,6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L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182520" y="3382920"/>
            <a:ext cx="906624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39840" indent="-339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Масена концентрација раствора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je 2 mg/c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рну концентрацију раство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mg NaCl =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 NaC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00 mg NaCl = 2 g NaCl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= X mola: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3148 mol/dm</a:t>
            </a:r>
            <a:r>
              <a:rPr b="0" lang="sr-Latn-CS" sz="25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/>
          <p:cNvSpPr/>
          <p:nvPr/>
        </p:nvSpPr>
        <p:spPr>
          <a:xfrm>
            <a:off x="2268360" y="1087560"/>
            <a:ext cx="48229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2"/>
          <p:cNvSpPr/>
          <p:nvPr/>
        </p:nvSpPr>
        <p:spPr>
          <a:xfrm>
            <a:off x="182520" y="4937040"/>
            <a:ext cx="86868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молова растворене супстанце (В) и масе растварача (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"/>
          <p:cNvPicPr/>
          <p:nvPr/>
        </p:nvPicPr>
        <p:blipFill>
          <a:blip r:embed="rId1"/>
          <a:stretch/>
        </p:blipFill>
        <p:spPr>
          <a:xfrm>
            <a:off x="1279440" y="2205000"/>
            <a:ext cx="648036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182520" y="1484280"/>
            <a:ext cx="8686800" cy="44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 67% раствора сахароз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33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k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030 g C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,93 mol/kg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1"/>
          <p:cNvSpPr/>
          <p:nvPr/>
        </p:nvSpPr>
        <p:spPr>
          <a:xfrm>
            <a:off x="182520" y="974880"/>
            <a:ext cx="8686800" cy="63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молал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моларитет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%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</a:t>
            </a:r>
            <a:r>
              <a:rPr b="0" lang="sr-R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10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85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0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,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k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76,5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8 mol/kg 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0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1,10 g/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100 g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165 g 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6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 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1908000" y="1197000"/>
            <a:ext cx="5759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концентрациј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2"/>
          <p:cNvSpPr/>
          <p:nvPr/>
        </p:nvSpPr>
        <p:spPr>
          <a:xfrm>
            <a:off x="179280" y="2781360"/>
            <a:ext cx="85694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Еквивалент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ормал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броја еквивалената растворене супстанце у </a:t>
            </a:r>
            <a:br>
              <a:rPr sz="2800"/>
            </a:b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160440" y="1125360"/>
            <a:ext cx="280836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182520" y="4754520"/>
            <a:ext cx="8763120" cy="19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ска фрак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количине растворене супстанце или растварача и укупне количине свих супстанци у раст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2"/>
          <p:cNvSpPr/>
          <p:nvPr/>
        </p:nvSpPr>
        <p:spPr>
          <a:xfrm>
            <a:off x="2817720" y="3075120"/>
            <a:ext cx="49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вор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 од растварача (А) и растворене супстанце (В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4" descr=""/>
          <p:cNvPicPr/>
          <p:nvPr/>
        </p:nvPicPr>
        <p:blipFill>
          <a:blip r:embed="rId1"/>
          <a:stretch/>
        </p:blipFill>
        <p:spPr>
          <a:xfrm>
            <a:off x="182520" y="1751040"/>
            <a:ext cx="7583400" cy="21938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5" descr=""/>
          <p:cNvPicPr/>
          <p:nvPr/>
        </p:nvPicPr>
        <p:blipFill>
          <a:blip r:embed="rId2"/>
          <a:stretch/>
        </p:blipFill>
        <p:spPr>
          <a:xfrm>
            <a:off x="5969160" y="3782880"/>
            <a:ext cx="26240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182520" y="731880"/>
            <a:ext cx="867744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sr-Latn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ћи молски удео растворене супстанце у 67% раствору сахарозе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= 3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+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=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34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67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196 mol C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2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18 g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33 g</a:t>
            </a:r>
            <a:r>
              <a:rPr b="0" lang="sr-R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,83 mol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182520" y="4846680"/>
            <a:ext cx="63230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7640" y="1125000"/>
            <a:ext cx="79092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Picture 10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80240" cy="2193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12"/>
          <p:cNvSpPr/>
          <p:nvPr/>
        </p:nvSpPr>
        <p:spPr>
          <a:xfrm>
            <a:off x="182520" y="4664160"/>
            <a:ext cx="869004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m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m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милион 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08000" y="1052640"/>
            <a:ext cx="719280" cy="47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b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274680" y="1828800"/>
            <a:ext cx="6708600" cy="21938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6"/>
          <p:cNvSpPr/>
          <p:nvPr/>
        </p:nvSpPr>
        <p:spPr>
          <a:xfrm>
            <a:off x="182520" y="4869000"/>
            <a:ext cx="869472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p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arts per billion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представља број честица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ене супстанце на </a:t>
            </a:r>
            <a:r>
              <a:rPr b="1" lang="sr-R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једну милијарду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честица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"/>
          <p:cNvPicPr/>
          <p:nvPr/>
        </p:nvPicPr>
        <p:blipFill>
          <a:blip r:embed="rId1"/>
          <a:stretch/>
        </p:blipFill>
        <p:spPr>
          <a:xfrm>
            <a:off x="663480" y="1628640"/>
            <a:ext cx="7543800" cy="28958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3"/>
          <p:cNvSpPr/>
          <p:nvPr/>
        </p:nvSpPr>
        <p:spPr>
          <a:xfrm>
            <a:off x="274680" y="4846680"/>
            <a:ext cx="7954920" cy="11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1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B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B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0</a:t>
            </a: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3"/>
          <p:cNvSpPr/>
          <p:nvPr/>
        </p:nvSpPr>
        <p:spPr>
          <a:xfrm>
            <a:off x="674640" y="6151680"/>
            <a:ext cx="576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ачност аналитичке ваге износи  ± 0,1 mg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35280" y="1196640"/>
            <a:ext cx="568800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антитативни састав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5960" y="2266560"/>
            <a:ext cx="7772400" cy="36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ени удео (процентна концентрација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р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ална концентрациј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ски удео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итет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m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B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pb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82160" y="1773360"/>
            <a:ext cx="8961480" cy="208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Aft>
                <a:spcPts val="1800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а растворене супстанце остаје константна, мења се запремина раствор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молова пре разблажења = број молова после разблажења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343080"/>
                <a:tab algn="l" pos="800280"/>
                <a:tab algn="l" pos="2114640"/>
                <a:tab algn="l" pos="251460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2626920" y="1125000"/>
            <a:ext cx="424836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зблаживање раствор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182520" y="3860640"/>
            <a:ext cx="8710560" cy="29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концентрацију раствор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је добијен меш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0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3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· 0,75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8 mol/dm</a:t>
            </a:r>
            <a:r>
              <a:rPr b="0" lang="sr-Latn-CS" sz="24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а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O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3"/>
          <p:cNvSpPr/>
          <p:nvPr/>
        </p:nvSpPr>
        <p:spPr>
          <a:xfrm>
            <a:off x="2340000" y="98100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и концентр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82520" y="1828800"/>
            <a:ext cx="536580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блажени раствори (&lt; 0,1 mol/L) – интеракције између честица растворене супстанце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немарљив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ид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2"/>
          <p:cNvSpPr/>
          <p:nvPr/>
        </p:nvSpPr>
        <p:spPr>
          <a:xfrm>
            <a:off x="182520" y="3932280"/>
            <a:ext cx="550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и раствори (&gt;</a:t>
            </a:r>
            <a:r>
              <a:rPr b="0" lang="sr-Latn-BA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 mol/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присутн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 између честица растворене супстанце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ални раствори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1" name="Object 1"/>
          <p:cNvGraphicFramePr/>
          <p:nvPr/>
        </p:nvGraphicFramePr>
        <p:xfrm>
          <a:off x="5668920" y="2930400"/>
          <a:ext cx="3237120" cy="30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68920" y="2930400"/>
                    <a:ext cx="3237120" cy="30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TextBox 3"/>
          <p:cNvSpPr/>
          <p:nvPr/>
        </p:nvSpPr>
        <p:spPr>
          <a:xfrm>
            <a:off x="5578560" y="1828800"/>
            <a:ext cx="34732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Шта се дешава у концентрованим растворима јаких електролита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6035760" y="6021360"/>
            <a:ext cx="3143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атмосф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250920" y="2637000"/>
            <a:ext cx="6697440" cy="26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стоје изоловани јони у раство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аки јон је окружен супротно наелектрисаним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buClr>
                <a:srgbClr val="00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су покретни у раствору тј. могу изаћи и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е и ући у другу јонску атмосфе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3"/>
          <p:cNvSpPr/>
          <p:nvPr/>
        </p:nvSpPr>
        <p:spPr>
          <a:xfrm>
            <a:off x="2124000" y="119700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baj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ikel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а теорија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923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5" descr="C:\Users\Maca\Desktop\debaj.png"/>
          <p:cNvPicPr/>
          <p:nvPr/>
        </p:nvPicPr>
        <p:blipFill>
          <a:blip r:embed="rId1"/>
          <a:stretch/>
        </p:blipFill>
        <p:spPr>
          <a:xfrm>
            <a:off x="6948360" y="2060640"/>
            <a:ext cx="194328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5"/>
          <p:cNvSpPr/>
          <p:nvPr/>
        </p:nvSpPr>
        <p:spPr>
          <a:xfrm>
            <a:off x="182520" y="1893960"/>
            <a:ext cx="885348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07.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R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</a:t>
            </a:r>
            <a:r>
              <a:rPr b="0" lang="sr-Latn-CS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Lewis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о појам активитет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 (а) је ефективна концентрација јона у раствор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TextBox 2"/>
          <p:cNvGrpSpPr/>
          <p:nvPr/>
        </p:nvGrpSpPr>
        <p:grpSpPr>
          <a:xfrm>
            <a:off x="244440" y="3260880"/>
            <a:ext cx="2419560" cy="969840"/>
            <a:chOff x="244440" y="3260880"/>
            <a:chExt cx="2419560" cy="969840"/>
          </a:xfrm>
        </p:grpSpPr>
        <p:pic>
          <p:nvPicPr>
            <p:cNvPr id="270" name="TextBox 2" descr=""/>
            <p:cNvPicPr/>
            <p:nvPr/>
          </p:nvPicPr>
          <p:blipFill>
            <a:blip r:embed="rId1"/>
            <a:stretch/>
          </p:blipFill>
          <p:spPr>
            <a:xfrm>
              <a:off x="244440" y="3260880"/>
              <a:ext cx="241956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57200" y="3357720"/>
              <a:ext cx="2143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 </a:t>
              </a:r>
              <a:r>
                <a:rPr b="1" lang="sr-Latn-CS" sz="3200" spc="-1" strike="noStrike" baseline="30000">
                  <a:solidFill>
                    <a:srgbClr val="01181f"/>
                  </a:solidFill>
                  <a:latin typeface="Times New Roman"/>
                  <a:ea typeface="Times New Roman"/>
                </a:rPr>
                <a:t>.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3"/>
          <p:cNvGrpSpPr/>
          <p:nvPr/>
        </p:nvGrpSpPr>
        <p:grpSpPr>
          <a:xfrm>
            <a:off x="244440" y="3902040"/>
            <a:ext cx="7558200" cy="1468440"/>
            <a:chOff x="244440" y="3902040"/>
            <a:chExt cx="7558200" cy="1468440"/>
          </a:xfrm>
        </p:grpSpPr>
        <p:pic>
          <p:nvPicPr>
            <p:cNvPr id="273" name="TextBox 3" descr=""/>
            <p:cNvPicPr/>
            <p:nvPr/>
          </p:nvPicPr>
          <p:blipFill>
            <a:blip r:embed="rId2"/>
            <a:stretch/>
          </p:blipFill>
          <p:spPr>
            <a:xfrm>
              <a:off x="244440" y="3902040"/>
              <a:ext cx="7558200" cy="146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57200" y="4005360"/>
              <a:ext cx="7286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c  - 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моларна концентрац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32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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фактор (коефицијент) активите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4"/>
          <p:cNvGrpSpPr/>
          <p:nvPr/>
        </p:nvGrpSpPr>
        <p:grpSpPr>
          <a:xfrm>
            <a:off x="274680" y="5126040"/>
            <a:ext cx="8130960" cy="873000"/>
            <a:chOff x="274680" y="5126040"/>
            <a:chExt cx="8130960" cy="873000"/>
          </a:xfrm>
        </p:grpSpPr>
        <p:pic>
          <p:nvPicPr>
            <p:cNvPr id="276" name="TextBox 4" descr=""/>
            <p:cNvPicPr/>
            <p:nvPr/>
          </p:nvPicPr>
          <p:blipFill>
            <a:blip r:embed="rId3"/>
            <a:stretch/>
          </p:blipFill>
          <p:spPr>
            <a:xfrm>
              <a:off x="274680" y="5126040"/>
              <a:ext cx="813096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457200" y="5210280"/>
              <a:ext cx="7889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Symbol"/>
                  <a:ea typeface="Symbol"/>
                </a:rPr>
                <a:t>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=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(идеалан раствор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5"/>
          <p:cNvGrpSpPr/>
          <p:nvPr/>
        </p:nvGrpSpPr>
        <p:grpSpPr>
          <a:xfrm>
            <a:off x="274680" y="5791320"/>
            <a:ext cx="8137440" cy="871560"/>
            <a:chOff x="274680" y="5791320"/>
            <a:chExt cx="8137440" cy="871560"/>
          </a:xfrm>
        </p:grpSpPr>
        <p:pic>
          <p:nvPicPr>
            <p:cNvPr id="279" name="TextBox 5" descr=""/>
            <p:cNvPicPr/>
            <p:nvPr/>
          </p:nvPicPr>
          <p:blipFill>
            <a:blip r:embed="rId4"/>
            <a:stretch/>
          </p:blipFill>
          <p:spPr>
            <a:xfrm>
              <a:off x="274680" y="5791320"/>
              <a:ext cx="8137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57200" y="5877000"/>
              <a:ext cx="78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f</a:t>
              </a:r>
              <a:r>
                <a:rPr b="1" lang="sr-Latn-C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&lt; 1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; </a:t>
              </a:r>
              <a:r>
                <a:rPr b="1" i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a &lt; c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(</a:t>
              </a:r>
              <a:r>
                <a:rPr b="1" lang="en-U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раствор електроли</a:t>
              </a:r>
              <a:r>
                <a:rPr b="1" lang="sr-RS" sz="2800" spc="-1" strike="noStrike">
                  <a:solidFill>
                    <a:srgbClr val="01181f"/>
                  </a:solidFill>
                  <a:latin typeface="Times New Roman"/>
                  <a:ea typeface="Times New Roman"/>
                </a:rPr>
                <a:t>та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3125520" y="1096920"/>
            <a:ext cx="268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ктивитет ј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82520" y="2276640"/>
            <a:ext cx="84963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од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електрисања посматраног јона у раствору,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е и наелектрисања свих јона присутних у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 (јонска сила раствора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365040" y="5715000"/>
            <a:ext cx="63676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≤ 0,001 mol/dm</a:t>
            </a:r>
            <a:r>
              <a:rPr b="0" lang="sr-Latn-C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је разблаже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i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4"/>
          <p:cNvSpPr/>
          <p:nvPr/>
        </p:nvSpPr>
        <p:spPr>
          <a:xfrm>
            <a:off x="182520" y="1197000"/>
            <a:ext cx="863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-Hikel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е може се израчунати фактор (коефицијент) активитета јон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6"/>
          <p:cNvGrpSpPr/>
          <p:nvPr/>
        </p:nvGrpSpPr>
        <p:grpSpPr>
          <a:xfrm>
            <a:off x="1979640" y="4543560"/>
            <a:ext cx="4392720" cy="973080"/>
            <a:chOff x="1979640" y="4543560"/>
            <a:chExt cx="4392720" cy="973080"/>
          </a:xfrm>
        </p:grpSpPr>
        <p:graphicFrame>
          <p:nvGraphicFramePr>
            <p:cNvPr id="286" name="Object 2"/>
            <p:cNvGraphicFramePr/>
            <p:nvPr/>
          </p:nvGraphicFramePr>
          <p:xfrm>
            <a:off x="1979640" y="4543560"/>
            <a:ext cx="4392720" cy="973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7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79640" y="4543560"/>
                      <a:ext cx="4392720" cy="973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88" name="TextBox 5"/>
            <p:cNvSpPr/>
            <p:nvPr/>
          </p:nvSpPr>
          <p:spPr>
            <a:xfrm>
              <a:off x="3714840" y="4584240"/>
              <a:ext cx="325080" cy="5205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Notched Right Arrow 5"/>
          <p:cNvSpPr/>
          <p:nvPr/>
        </p:nvSpPr>
        <p:spPr>
          <a:xfrm>
            <a:off x="3059280" y="5950080"/>
            <a:ext cx="366480" cy="137880"/>
          </a:xfrm>
          <a:custGeom>
            <a:avLst/>
            <a:gdLst>
              <a:gd name="textAreaLeft" fmla="*/ 34200 w 366480"/>
              <a:gd name="textAreaRight" fmla="*/ 332280 w 366480"/>
              <a:gd name="textAreaTop" fmla="*/ 34560 h 137880"/>
              <a:gd name="textAreaBottom" fmla="*/ 103680 h 13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Notched Right Arrow 5"/>
          <p:cNvSpPr/>
          <p:nvPr/>
        </p:nvSpPr>
        <p:spPr>
          <a:xfrm>
            <a:off x="1258920" y="638172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1835280" y="1189080"/>
            <a:ext cx="56163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а сила (јачина) раствор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187200" y="2176560"/>
            <a:ext cx="8750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а сил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јачина)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 једнака је половини збира производа концентрације сваког јона и квадрата његовог наелектриса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7"/>
          <p:cNvSpPr/>
          <p:nvPr/>
        </p:nvSpPr>
        <p:spPr>
          <a:xfrm>
            <a:off x="182520" y="5013360"/>
            <a:ext cx="77742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...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нтрациј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у раствору (mol/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…,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електрисање јона у раство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2" descr=""/>
          <p:cNvPicPr/>
          <p:nvPr/>
        </p:nvPicPr>
        <p:blipFill>
          <a:blip r:embed="rId1"/>
          <a:stretch/>
        </p:blipFill>
        <p:spPr>
          <a:xfrm>
            <a:off x="1189080" y="3657600"/>
            <a:ext cx="6253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274680" y="4437000"/>
            <a:ext cx="792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2Al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3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1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182520" y="512136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3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1,8  + 1,2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182520" y="1096920"/>
            <a:ext cx="8640720" cy="104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Израчунај јонску силу 0,2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182520" y="2938320"/>
            <a:ext cx="813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= ½ (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8  + 0,4)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6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"/>
          <p:cNvSpPr/>
          <p:nvPr/>
        </p:nvSpPr>
        <p:spPr>
          <a:xfrm>
            <a:off x="457200" y="2316240"/>
            <a:ext cx="58323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2Cl</a:t>
            </a:r>
            <a:r>
              <a:rPr b="0" lang="sr-Latn-CS" sz="28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2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"/>
          <p:cNvSpPr/>
          <p:nvPr/>
        </p:nvSpPr>
        <p:spPr>
          <a:xfrm>
            <a:off x="182520" y="3641760"/>
            <a:ext cx="84978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ј јонску силу 0,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O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1"/>
          <p:cNvSpPr/>
          <p:nvPr/>
        </p:nvSpPr>
        <p:spPr>
          <a:xfrm>
            <a:off x="2771640" y="1220760"/>
            <a:ext cx="38894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актор активитета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182520" y="2103480"/>
            <a:ext cx="889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a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ike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етски су израчунали зависност  </a:t>
            </a:r>
            <a:r>
              <a:rPr b="0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а активитет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од његовог наелектрисања и јонске јач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5029200" y="3879720"/>
            <a:ext cx="367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z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наелектрисање ј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– </a:t>
            </a:r>
            <a:r>
              <a:rPr b="0" lang="en-U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јонска јачина</a:t>
            </a:r>
            <a:r>
              <a:rPr b="0" lang="sr-RS" sz="2400" spc="-1" strike="noStrike">
                <a:solidFill>
                  <a:srgbClr val="01181f"/>
                </a:solidFill>
                <a:latin typeface="Times New Roman"/>
                <a:ea typeface="Times New Roman"/>
              </a:rPr>
              <a:t> раство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6"/>
          <p:cNvSpPr/>
          <p:nvPr/>
        </p:nvSpPr>
        <p:spPr>
          <a:xfrm>
            <a:off x="182520" y="5253120"/>
            <a:ext cx="84265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разблаженим растворима (I ≤ 0,01  mol/L)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5" name="Object 12"/>
          <p:cNvGraphicFramePr/>
          <p:nvPr/>
        </p:nvGraphicFramePr>
        <p:xfrm>
          <a:off x="1006560" y="3716280"/>
          <a:ext cx="332748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6560" y="3716280"/>
                    <a:ext cx="332748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7" name="Object 13"/>
          <p:cNvGraphicFramePr/>
          <p:nvPr/>
        </p:nvGraphicFramePr>
        <p:xfrm>
          <a:off x="1279440" y="5851440"/>
          <a:ext cx="3407040" cy="64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79440" y="5851440"/>
                    <a:ext cx="3407040" cy="64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4"/>
          <p:cNvSpPr/>
          <p:nvPr/>
        </p:nvSpPr>
        <p:spPr>
          <a:xfrm>
            <a:off x="182520" y="992160"/>
            <a:ext cx="88930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</a:t>
            </a:r>
            <a:r>
              <a:rPr b="0" i="1" lang="sr-Latn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тет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01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5"/>
          <p:cNvSpPr/>
          <p:nvPr/>
        </p:nvSpPr>
        <p:spPr>
          <a:xfrm>
            <a:off x="-19080" y="309240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½ (0,01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0,01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½ (0,04  + 0,04) = 0,0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206960" y="4206960"/>
            <a:ext cx="236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≈ 0,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274680" y="52117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1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,48 =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0048 mol/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3" name="Object 7"/>
          <p:cNvGraphicFramePr/>
          <p:nvPr/>
        </p:nvGraphicFramePr>
        <p:xfrm>
          <a:off x="274680" y="4022640"/>
          <a:ext cx="2911320" cy="100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4022640"/>
                    <a:ext cx="2911320" cy="10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Rectangle 1"/>
          <p:cNvSpPr/>
          <p:nvPr/>
        </p:nvSpPr>
        <p:spPr>
          <a:xfrm>
            <a:off x="182520" y="2427120"/>
            <a:ext cx="737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→  Mg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= 0,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R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Diagram 4" descr=""/>
          <p:cNvPicPr/>
          <p:nvPr/>
        </p:nvPicPr>
        <p:blipFill>
          <a:blip r:embed="rId1"/>
          <a:stretch/>
        </p:blipFill>
        <p:spPr>
          <a:xfrm>
            <a:off x="1390680" y="1847880"/>
            <a:ext cx="6119640" cy="4059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"/>
          <p:cNvSpPr/>
          <p:nvPr/>
        </p:nvSpPr>
        <p:spPr>
          <a:xfrm>
            <a:off x="2687760" y="112536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Box 4"/>
          <p:cNvSpPr/>
          <p:nvPr/>
        </p:nvSpPr>
        <p:spPr>
          <a:xfrm>
            <a:off x="3143160" y="1189080"/>
            <a:ext cx="308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 (</a:t>
            </a:r>
            <a:r>
              <a:rPr b="1" i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w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8"/>
          <p:cNvSpPr/>
          <p:nvPr/>
        </p:nvSpPr>
        <p:spPr>
          <a:xfrm>
            <a:off x="182520" y="5029200"/>
            <a:ext cx="8458200" cy="1099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и удео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оцентна 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грама растворене супстанце у 100 </a:t>
            </a:r>
            <a:r>
              <a:rPr b="1" lang="en-U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g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2" descr=""/>
          <p:cNvPicPr/>
          <p:nvPr/>
        </p:nvPicPr>
        <p:blipFill>
          <a:blip r:embed="rId1"/>
          <a:stretch/>
        </p:blipFill>
        <p:spPr>
          <a:xfrm>
            <a:off x="457200" y="2011320"/>
            <a:ext cx="758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Rounded Rectangle 4"/>
          <p:cNvGrpSpPr/>
          <p:nvPr/>
        </p:nvGrpSpPr>
        <p:grpSpPr>
          <a:xfrm>
            <a:off x="304920" y="1122480"/>
            <a:ext cx="4236840" cy="1296720"/>
            <a:chOff x="304920" y="1122480"/>
            <a:chExt cx="4236840" cy="1296720"/>
          </a:xfrm>
        </p:grpSpPr>
        <p:pic>
          <p:nvPicPr>
            <p:cNvPr id="31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04920" y="1122480"/>
              <a:ext cx="4236840" cy="12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365040" y="1266840"/>
              <a:ext cx="4114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ИРЕВЕРЗИБИЛНЕ (КОНАЧ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1" name="Object 2"/>
          <p:cNvGraphicFramePr/>
          <p:nvPr/>
        </p:nvGraphicFramePr>
        <p:xfrm>
          <a:off x="457200" y="2844720"/>
          <a:ext cx="3749760" cy="37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2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844720"/>
                    <a:ext cx="3749760" cy="3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TextBox 7"/>
          <p:cNvSpPr/>
          <p:nvPr/>
        </p:nvSpPr>
        <p:spPr>
          <a:xfrm>
            <a:off x="1271520" y="3182760"/>
            <a:ext cx="243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4"/>
          <p:cNvGrpSpPr/>
          <p:nvPr/>
        </p:nvGrpSpPr>
        <p:grpSpPr>
          <a:xfrm>
            <a:off x="304920" y="3943440"/>
            <a:ext cx="4236840" cy="1293840"/>
            <a:chOff x="304920" y="3943440"/>
            <a:chExt cx="4236840" cy="1293840"/>
          </a:xfrm>
        </p:grpSpPr>
        <p:pic>
          <p:nvPicPr>
            <p:cNvPr id="325" name="Rounded Rectangle 4" descr=""/>
            <p:cNvPicPr/>
            <p:nvPr/>
          </p:nvPicPr>
          <p:blipFill>
            <a:blip r:embed="rId4"/>
            <a:stretch/>
          </p:blipFill>
          <p:spPr>
            <a:xfrm>
              <a:off x="304920" y="3943440"/>
              <a:ext cx="4236840" cy="129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365040" y="4086360"/>
              <a:ext cx="4114800" cy="82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0520" rIns="110520" tIns="110520" bIns="11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ЕВЕРЗИБИЛНЕ (ПОВРАТНЕ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27" name="Object 3"/>
          <p:cNvGraphicFramePr/>
          <p:nvPr/>
        </p:nvGraphicFramePr>
        <p:xfrm>
          <a:off x="457200" y="6067440"/>
          <a:ext cx="35654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8" name="Object 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6067440"/>
                    <a:ext cx="35654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9" name="Object 4"/>
          <p:cNvGraphicFramePr/>
          <p:nvPr/>
        </p:nvGraphicFramePr>
        <p:xfrm>
          <a:off x="457200" y="5267160"/>
          <a:ext cx="3932280" cy="422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0" name="Object 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267160"/>
                    <a:ext cx="393228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Rounded Rectangle 11"/>
          <p:cNvSpPr/>
          <p:nvPr/>
        </p:nvSpPr>
        <p:spPr>
          <a:xfrm>
            <a:off x="1782720" y="5068800"/>
            <a:ext cx="1281240" cy="8384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03495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ight Arrow 9"/>
          <p:cNvSpPr/>
          <p:nvPr/>
        </p:nvSpPr>
        <p:spPr>
          <a:xfrm>
            <a:off x="6218280" y="1557360"/>
            <a:ext cx="1461960" cy="3650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ight Arrow 10"/>
          <p:cNvSpPr/>
          <p:nvPr/>
        </p:nvSpPr>
        <p:spPr>
          <a:xfrm>
            <a:off x="6218280" y="409572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ight Arrow 12"/>
          <p:cNvSpPr/>
          <p:nvPr/>
        </p:nvSpPr>
        <p:spPr>
          <a:xfrm rot="10800000">
            <a:off x="6217920" y="4462560"/>
            <a:ext cx="1461960" cy="3808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c0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"/>
          <p:cNvSpPr/>
          <p:nvPr/>
        </p:nvSpPr>
        <p:spPr>
          <a:xfrm>
            <a:off x="495720" y="2128680"/>
            <a:ext cx="38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  +  В</a:t>
            </a:r>
            <a:r>
              <a:rPr b="1" lang="sr-RS" sz="32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  + 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3"/>
          <p:cNvCxnSpPr/>
          <p:nvPr/>
        </p:nvCxnSpPr>
        <p:spPr>
          <a:xfrm>
            <a:off x="2063520" y="2420640"/>
            <a:ext cx="719640" cy="108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611280" y="1197000"/>
            <a:ext cx="792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кон о дејству маса – 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uldberg-Waage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 зак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4"/>
          <p:cNvSpPr/>
          <p:nvPr/>
        </p:nvSpPr>
        <p:spPr>
          <a:xfrm>
            <a:off x="179280" y="2011320"/>
            <a:ext cx="87854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стантној температури (T = const), брзина хемијске реакције је управо пропорционална производу концентрација реактана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20"/>
          <p:cNvGrpSpPr/>
          <p:nvPr/>
        </p:nvGrpSpPr>
        <p:grpSpPr>
          <a:xfrm>
            <a:off x="1831320" y="3541680"/>
            <a:ext cx="4725720" cy="581400"/>
            <a:chOff x="1831320" y="3541680"/>
            <a:chExt cx="4725720" cy="581400"/>
          </a:xfrm>
        </p:grpSpPr>
        <p:sp>
          <p:nvSpPr>
            <p:cNvPr id="340" name="Rectangle 16"/>
            <p:cNvSpPr/>
            <p:nvPr/>
          </p:nvSpPr>
          <p:spPr>
            <a:xfrm>
              <a:off x="183132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7"/>
            <p:cNvSpPr/>
            <p:nvPr/>
          </p:nvSpPr>
          <p:spPr>
            <a:xfrm>
              <a:off x="4966560" y="3541680"/>
              <a:ext cx="159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Times New Roman"/>
                  <a:ea typeface="Times New Roman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2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3595680" y="373716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3" name="TextBox 9"/>
          <p:cNvGrpSpPr/>
          <p:nvPr/>
        </p:nvGrpSpPr>
        <p:grpSpPr>
          <a:xfrm>
            <a:off x="3144960" y="4303800"/>
            <a:ext cx="2298600" cy="761760"/>
            <a:chOff x="3144960" y="4303800"/>
            <a:chExt cx="2298600" cy="761760"/>
          </a:xfrm>
        </p:grpSpPr>
        <p:pic>
          <p:nvPicPr>
            <p:cNvPr id="344" name="TextBox 9" descr=""/>
            <p:cNvPicPr/>
            <p:nvPr/>
          </p:nvPicPr>
          <p:blipFill>
            <a:blip r:embed="rId2"/>
            <a:stretch/>
          </p:blipFill>
          <p:spPr>
            <a:xfrm>
              <a:off x="3144960" y="4303800"/>
              <a:ext cx="229860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3260880" y="4373640"/>
              <a:ext cx="2122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Rectangle 10"/>
          <p:cNvSpPr/>
          <p:nvPr/>
        </p:nvSpPr>
        <p:spPr>
          <a:xfrm>
            <a:off x="3979080" y="3373560"/>
            <a:ext cx="339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11"/>
          <p:cNvSpPr/>
          <p:nvPr/>
        </p:nvSpPr>
        <p:spPr>
          <a:xfrm>
            <a:off x="223920" y="5292720"/>
            <a:ext cx="801828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нстанта брзине реакц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] и [B]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оларне концентрације реактаната (mol/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техиометријски коефицијенти из хемијске реакциј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0"/>
          <p:cNvGrpSpPr/>
          <p:nvPr/>
        </p:nvGrpSpPr>
        <p:grpSpPr>
          <a:xfrm>
            <a:off x="2130480" y="1557360"/>
            <a:ext cx="4802400" cy="581400"/>
            <a:chOff x="2130480" y="1557360"/>
            <a:chExt cx="4802400" cy="581400"/>
          </a:xfrm>
        </p:grpSpPr>
        <p:sp>
          <p:nvSpPr>
            <p:cNvPr id="349" name="Rectangle 16"/>
            <p:cNvSpPr/>
            <p:nvPr/>
          </p:nvSpPr>
          <p:spPr>
            <a:xfrm>
              <a:off x="2130480" y="1557360"/>
              <a:ext cx="172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a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A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7"/>
            <p:cNvSpPr/>
            <p:nvPr/>
          </p:nvSpPr>
          <p:spPr>
            <a:xfrm>
              <a:off x="5244480" y="1557360"/>
              <a:ext cx="168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c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C + </a:t>
              </a:r>
              <a:r>
                <a:rPr b="1" i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r>
                <a:rPr b="1" lang="en-US" sz="3200" spc="-1" strike="noStrike">
                  <a:solidFill>
                    <a:srgbClr val="072428"/>
                  </a:solidFill>
                  <a:latin typeface="Constantia"/>
                </a:rPr>
                <a:t>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51" name="Picture 18" descr="equilibrium"/>
            <p:cNvPicPr/>
            <p:nvPr/>
          </p:nvPicPr>
          <p:blipFill>
            <a:blip r:embed="rId1"/>
            <a:stretch/>
          </p:blipFill>
          <p:spPr>
            <a:xfrm>
              <a:off x="4008240" y="1752840"/>
              <a:ext cx="1244520" cy="190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2" name="Group 22"/>
          <p:cNvGrpSpPr/>
          <p:nvPr/>
        </p:nvGrpSpPr>
        <p:grpSpPr>
          <a:xfrm>
            <a:off x="2130480" y="2205000"/>
            <a:ext cx="4802400" cy="695160"/>
            <a:chOff x="2130480" y="2205000"/>
            <a:chExt cx="4802400" cy="695160"/>
          </a:xfrm>
        </p:grpSpPr>
        <p:grpSp>
          <p:nvGrpSpPr>
            <p:cNvPr id="353" name="Group 20"/>
            <p:cNvGrpSpPr/>
            <p:nvPr/>
          </p:nvGrpSpPr>
          <p:grpSpPr>
            <a:xfrm>
              <a:off x="2130480" y="2318760"/>
              <a:ext cx="4802400" cy="581400"/>
              <a:chOff x="2130480" y="2318760"/>
              <a:chExt cx="4802400" cy="581400"/>
            </a:xfrm>
          </p:grpSpPr>
          <p:sp>
            <p:nvSpPr>
              <p:cNvPr id="354" name="Rectangle 16"/>
              <p:cNvSpPr/>
              <p:nvPr/>
            </p:nvSpPr>
            <p:spPr>
              <a:xfrm>
                <a:off x="2130480" y="2318760"/>
                <a:ext cx="17218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17"/>
              <p:cNvSpPr/>
              <p:nvPr/>
            </p:nvSpPr>
            <p:spPr>
              <a:xfrm>
                <a:off x="5244480" y="2318760"/>
                <a:ext cx="1688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D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6" name="TextBox 14"/>
            <p:cNvSpPr/>
            <p:nvPr/>
          </p:nvSpPr>
          <p:spPr>
            <a:xfrm>
              <a:off x="4305240" y="22050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23"/>
          <p:cNvGrpSpPr/>
          <p:nvPr/>
        </p:nvGrpSpPr>
        <p:grpSpPr>
          <a:xfrm>
            <a:off x="1716120" y="2895480"/>
            <a:ext cx="5788080" cy="1114560"/>
            <a:chOff x="1716120" y="2895480"/>
            <a:chExt cx="5788080" cy="1114560"/>
          </a:xfrm>
        </p:grpSpPr>
        <p:grpSp>
          <p:nvGrpSpPr>
            <p:cNvPr id="358" name="Group 20"/>
            <p:cNvGrpSpPr/>
            <p:nvPr/>
          </p:nvGrpSpPr>
          <p:grpSpPr>
            <a:xfrm>
              <a:off x="1716120" y="2941200"/>
              <a:ext cx="5788080" cy="1068840"/>
              <a:chOff x="1716120" y="2941200"/>
              <a:chExt cx="5788080" cy="1068840"/>
            </a:xfrm>
          </p:grpSpPr>
          <p:sp>
            <p:nvSpPr>
              <p:cNvPr id="359" name="Rectangle 16"/>
              <p:cNvSpPr/>
              <p:nvPr/>
            </p:nvSpPr>
            <p:spPr>
              <a:xfrm>
                <a:off x="2051280" y="3077280"/>
                <a:ext cx="183960" cy="57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17"/>
              <p:cNvSpPr/>
              <p:nvPr/>
            </p:nvSpPr>
            <p:spPr>
              <a:xfrm>
                <a:off x="1716120" y="2941200"/>
                <a:ext cx="578808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c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C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dD</a:t>
                </a:r>
                <a:r>
                  <a:rPr b="1" lang="sr-Latn-CS" sz="3200" spc="-1" strike="noStrike">
                    <a:solidFill>
                      <a:srgbClr val="072428"/>
                    </a:solidFill>
                    <a:latin typeface="Constantia"/>
                  </a:rPr>
                  <a:t>                  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a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A + </a:t>
                </a:r>
                <a:r>
                  <a:rPr b="1" i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r>
                  <a:rPr b="1" lang="en-US" sz="3200" spc="-1" strike="noStrike">
                    <a:solidFill>
                      <a:srgbClr val="072428"/>
                    </a:solidFill>
                    <a:latin typeface="Constantia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61" name="Straight Arrow Connector 19"/>
            <p:cNvCxnSpPr/>
            <p:nvPr/>
          </p:nvCxnSpPr>
          <p:spPr>
            <a:xfrm flipV="1">
              <a:off x="4000680" y="3344040"/>
              <a:ext cx="1219680" cy="13320"/>
            </a:xfrm>
            <a:prstGeom prst="straightConnector1">
              <a:avLst/>
            </a:prstGeom>
            <a:ln w="38160">
              <a:solidFill>
                <a:srgbClr val="0d0d0d"/>
              </a:solidFill>
              <a:miter/>
              <a:tailEnd len="med" type="arrow" w="med"/>
            </a:ln>
          </p:spPr>
        </p:cxnSp>
        <p:sp>
          <p:nvSpPr>
            <p:cNvPr id="362" name="TextBox 20"/>
            <p:cNvSpPr/>
            <p:nvPr/>
          </p:nvSpPr>
          <p:spPr>
            <a:xfrm>
              <a:off x="4249800" y="289548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38160" dir="5400000" blurRad="0" rotWithShape="0">
                <a:srgbClr val="002041">
                  <a:alpha val="4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Constantia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Constanti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TextBox 24"/>
          <p:cNvGrpSpPr/>
          <p:nvPr/>
        </p:nvGrpSpPr>
        <p:grpSpPr>
          <a:xfrm>
            <a:off x="212760" y="4443480"/>
            <a:ext cx="2805120" cy="757080"/>
            <a:chOff x="212760" y="4443480"/>
            <a:chExt cx="2805120" cy="757080"/>
          </a:xfrm>
        </p:grpSpPr>
        <p:pic>
          <p:nvPicPr>
            <p:cNvPr id="364" name="TextBox 24" descr=""/>
            <p:cNvPicPr/>
            <p:nvPr/>
          </p:nvPicPr>
          <p:blipFill>
            <a:blip r:embed="rId2"/>
            <a:stretch/>
          </p:blipFill>
          <p:spPr>
            <a:xfrm>
              <a:off x="212760" y="4443480"/>
              <a:ext cx="28051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365040" y="4508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 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25"/>
          <p:cNvSpPr/>
          <p:nvPr/>
        </p:nvSpPr>
        <p:spPr>
          <a:xfrm>
            <a:off x="182520" y="3754440"/>
            <a:ext cx="45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мо закон о дејству ма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TextBox 26"/>
          <p:cNvGrpSpPr/>
          <p:nvPr/>
        </p:nvGrpSpPr>
        <p:grpSpPr>
          <a:xfrm>
            <a:off x="212760" y="5016600"/>
            <a:ext cx="2805120" cy="761760"/>
            <a:chOff x="212760" y="5016600"/>
            <a:chExt cx="2805120" cy="761760"/>
          </a:xfrm>
        </p:grpSpPr>
        <p:pic>
          <p:nvPicPr>
            <p:cNvPr id="368" name="TextBox 26" descr=""/>
            <p:cNvPicPr/>
            <p:nvPr/>
          </p:nvPicPr>
          <p:blipFill>
            <a:blip r:embed="rId3"/>
            <a:stretch/>
          </p:blipFill>
          <p:spPr>
            <a:xfrm>
              <a:off x="212760" y="5016600"/>
              <a:ext cx="2805120" cy="76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"/>
            <p:cNvSpPr/>
            <p:nvPr/>
          </p:nvSpPr>
          <p:spPr>
            <a:xfrm>
              <a:off x="365040" y="5084640"/>
              <a:ext cx="2590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C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TextBox 27"/>
          <p:cNvGrpSpPr/>
          <p:nvPr/>
        </p:nvGrpSpPr>
        <p:grpSpPr>
          <a:xfrm>
            <a:off x="291960" y="5578560"/>
            <a:ext cx="1586160" cy="865080"/>
            <a:chOff x="291960" y="5578560"/>
            <a:chExt cx="1586160" cy="865080"/>
          </a:xfrm>
        </p:grpSpPr>
        <p:pic>
          <p:nvPicPr>
            <p:cNvPr id="371" name="TextBox 27" descr=""/>
            <p:cNvPicPr/>
            <p:nvPr/>
          </p:nvPicPr>
          <p:blipFill>
            <a:blip r:embed="rId4"/>
            <a:stretch/>
          </p:blipFill>
          <p:spPr>
            <a:xfrm>
              <a:off x="291960" y="5578560"/>
              <a:ext cx="15861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365040" y="5661000"/>
              <a:ext cx="1447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v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ounded Rectangle 4"/>
          <p:cNvSpPr/>
          <p:nvPr/>
        </p:nvSpPr>
        <p:spPr>
          <a:xfrm>
            <a:off x="1495440" y="1012680"/>
            <a:ext cx="6229440" cy="385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у хомогеним систем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" descr=""/>
          <p:cNvPicPr/>
          <p:nvPr/>
        </p:nvPicPr>
        <p:blipFill>
          <a:blip r:embed="rId5"/>
          <a:stretch/>
        </p:blipFill>
        <p:spPr>
          <a:xfrm>
            <a:off x="4664160" y="3930480"/>
            <a:ext cx="4341600" cy="2738520"/>
          </a:xfrm>
          <a:prstGeom prst="rect">
            <a:avLst/>
          </a:prstGeom>
          <a:ln w="0">
            <a:noFill/>
          </a:ln>
        </p:spPr>
      </p:pic>
      <p:sp>
        <p:nvSpPr>
          <p:cNvPr id="375" name="Oval 29"/>
          <p:cNvSpPr/>
          <p:nvPr/>
        </p:nvSpPr>
        <p:spPr>
          <a:xfrm>
            <a:off x="7020000" y="4591080"/>
            <a:ext cx="1800000" cy="822240"/>
          </a:xfrm>
          <a:prstGeom prst="ellipse">
            <a:avLst/>
          </a:pr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8"/>
          <p:cNvCxnSpPr/>
          <p:nvPr/>
        </p:nvCxnSpPr>
        <p:spPr>
          <a:xfrm flipV="1">
            <a:off x="3990600" y="2637720"/>
            <a:ext cx="1220040" cy="13320"/>
          </a:xfrm>
          <a:prstGeom prst="straightConnector1">
            <a:avLst/>
          </a:prstGeom>
          <a:ln w="38160">
            <a:solidFill>
              <a:srgbClr val="0d0d0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7" name="TextBox 3"/>
          <p:cNvGrpSpPr/>
          <p:nvPr/>
        </p:nvGrpSpPr>
        <p:grpSpPr>
          <a:xfrm>
            <a:off x="2498760" y="1341360"/>
            <a:ext cx="3620880" cy="779400"/>
            <a:chOff x="2498760" y="1341360"/>
            <a:chExt cx="3620880" cy="779400"/>
          </a:xfrm>
        </p:grpSpPr>
        <p:pic>
          <p:nvPicPr>
            <p:cNvPr id="378" name="TextBox 3" descr=""/>
            <p:cNvPicPr/>
            <p:nvPr/>
          </p:nvPicPr>
          <p:blipFill>
            <a:blip r:embed="rId1"/>
            <a:stretch/>
          </p:blipFill>
          <p:spPr>
            <a:xfrm>
              <a:off x="2498760" y="1341360"/>
              <a:ext cx="362088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"/>
            <p:cNvSpPr/>
            <p:nvPr/>
          </p:nvSpPr>
          <p:spPr>
            <a:xfrm>
              <a:off x="2627280" y="1413000"/>
              <a:ext cx="342900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sr-Latn-C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[A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B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b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= </a:t>
              </a:r>
              <a:r>
                <a:rPr b="1" i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D]</a:t>
              </a:r>
              <a:r>
                <a:rPr b="1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80" name="Object 3"/>
          <p:cNvGraphicFramePr/>
          <p:nvPr/>
        </p:nvGraphicFramePr>
        <p:xfrm>
          <a:off x="3087720" y="2382840"/>
          <a:ext cx="2573280" cy="97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87720" y="2382840"/>
                    <a:ext cx="2573280" cy="9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2" name="Oval 6"/>
          <p:cNvSpPr/>
          <p:nvPr/>
        </p:nvSpPr>
        <p:spPr>
          <a:xfrm>
            <a:off x="3059280" y="2133720"/>
            <a:ext cx="649080" cy="1601640"/>
          </a:xfrm>
          <a:prstGeom prst="ellipse">
            <a:avLst/>
          </a:prstGeom>
          <a:noFill/>
          <a:ln w="3816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7"/>
          <p:cNvSpPr/>
          <p:nvPr/>
        </p:nvSpPr>
        <p:spPr>
          <a:xfrm>
            <a:off x="611280" y="3429000"/>
            <a:ext cx="18000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4" name="Straight Arrow Connector 9"/>
          <p:cNvCxnSpPr/>
          <p:nvPr/>
        </p:nvCxnSpPr>
        <p:spPr>
          <a:xfrm flipV="1">
            <a:off x="2050920" y="3239640"/>
            <a:ext cx="883440" cy="3564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385" name="Object 4"/>
          <p:cNvGraphicFramePr/>
          <p:nvPr/>
        </p:nvGraphicFramePr>
        <p:xfrm>
          <a:off x="822240" y="4114800"/>
          <a:ext cx="3456000" cy="1006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6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22240" y="4114800"/>
                    <a:ext cx="3456000" cy="10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7" name="TextBox 11"/>
          <p:cNvSpPr/>
          <p:nvPr/>
        </p:nvSpPr>
        <p:spPr>
          <a:xfrm>
            <a:off x="4932360" y="4206960"/>
            <a:ext cx="3505320" cy="85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е равнотеж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2"/>
          <p:cNvSpPr/>
          <p:nvPr/>
        </p:nvSpPr>
        <p:spPr>
          <a:xfrm>
            <a:off x="274680" y="5578560"/>
            <a:ext cx="61912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0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2"/>
          <p:cNvSpPr/>
          <p:nvPr/>
        </p:nvSpPr>
        <p:spPr>
          <a:xfrm>
            <a:off x="274680" y="6126120"/>
            <a:ext cx="829152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 зависи од </a:t>
            </a: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ператур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5121360" y="2743200"/>
            <a:ext cx="4022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&gt; 1, производи су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5121360" y="5486400"/>
            <a:ext cx="4022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5440" indent="-5544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K &lt;&lt; 1, реактанти су          доминантни у равнотеж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1584360" y="4532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TextBox 12"/>
          <p:cNvGrpSpPr/>
          <p:nvPr/>
        </p:nvGrpSpPr>
        <p:grpSpPr>
          <a:xfrm>
            <a:off x="1463760" y="2614680"/>
            <a:ext cx="2163600" cy="1189080"/>
            <a:chOff x="1463760" y="2614680"/>
            <a:chExt cx="2163600" cy="1189080"/>
          </a:xfrm>
        </p:grpSpPr>
        <p:pic>
          <p:nvPicPr>
            <p:cNvPr id="394" name="TextBox 12" descr=""/>
            <p:cNvPicPr/>
            <p:nvPr/>
          </p:nvPicPr>
          <p:blipFill>
            <a:blip r:embed="rId1"/>
            <a:stretch/>
          </p:blipFill>
          <p:spPr>
            <a:xfrm>
              <a:off x="1463760" y="2614680"/>
              <a:ext cx="216360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1736640" y="2743200"/>
              <a:ext cx="1828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gt;&gt;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TextBox 13"/>
          <p:cNvGrpSpPr/>
          <p:nvPr/>
        </p:nvGrpSpPr>
        <p:grpSpPr>
          <a:xfrm>
            <a:off x="1463760" y="5357880"/>
            <a:ext cx="2346120" cy="1189080"/>
            <a:chOff x="1463760" y="5357880"/>
            <a:chExt cx="2346120" cy="1189080"/>
          </a:xfrm>
        </p:grpSpPr>
        <p:pic>
          <p:nvPicPr>
            <p:cNvPr id="397" name="TextBox 13" descr=""/>
            <p:cNvPicPr/>
            <p:nvPr/>
          </p:nvPicPr>
          <p:blipFill>
            <a:blip r:embed="rId2"/>
            <a:stretch/>
          </p:blipFill>
          <p:spPr>
            <a:xfrm>
              <a:off x="1463760" y="5357880"/>
              <a:ext cx="234612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1736640" y="5486400"/>
              <a:ext cx="201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 &lt;&lt;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9" name="Object 13"/>
          <p:cNvGraphicFramePr/>
          <p:nvPr/>
        </p:nvGraphicFramePr>
        <p:xfrm>
          <a:off x="289080" y="1254240"/>
          <a:ext cx="4643280" cy="1382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080" y="1254240"/>
                    <a:ext cx="46432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Object 14"/>
          <p:cNvGraphicFramePr/>
          <p:nvPr/>
        </p:nvGraphicFramePr>
        <p:xfrm>
          <a:off x="324000" y="4005360"/>
          <a:ext cx="4736880" cy="1382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005360"/>
                    <a:ext cx="473688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TextBox 10"/>
          <p:cNvSpPr/>
          <p:nvPr/>
        </p:nvSpPr>
        <p:spPr>
          <a:xfrm>
            <a:off x="395280" y="20606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3348000" y="202104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4"/>
          <p:cNvSpPr/>
          <p:nvPr/>
        </p:nvSpPr>
        <p:spPr>
          <a:xfrm>
            <a:off x="468360" y="4797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ан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3419640" y="482904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4"/>
          <p:cNvSpPr/>
          <p:nvPr/>
        </p:nvSpPr>
        <p:spPr>
          <a:xfrm>
            <a:off x="611280" y="1268280"/>
            <a:ext cx="77724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Фактори од којих зависи хемијска равнотеж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274680" y="2637000"/>
            <a:ext cx="869004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концентрације реактаната или 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еа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температу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мена притиска (ако су реактанти ил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извод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асовитом агрегатном стањ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4" descr=""/>
          <p:cNvPicPr/>
          <p:nvPr/>
        </p:nvPicPr>
        <p:blipFill>
          <a:blip r:embed="rId1"/>
          <a:stretch/>
        </p:blipFill>
        <p:spPr>
          <a:xfrm>
            <a:off x="3348000" y="1916280"/>
            <a:ext cx="1817640" cy="1935000"/>
          </a:xfrm>
          <a:prstGeom prst="rect">
            <a:avLst/>
          </a:prstGeom>
          <a:ln w="0">
            <a:noFill/>
          </a:ln>
        </p:spPr>
      </p:pic>
      <p:sp>
        <p:nvSpPr>
          <p:cNvPr id="410" name="Rectangle 5"/>
          <p:cNvSpPr/>
          <p:nvPr/>
        </p:nvSpPr>
        <p:spPr>
          <a:xfrm>
            <a:off x="5330880" y="308124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nri Le Chatel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50-1936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2411280" y="1176480"/>
            <a:ext cx="41767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</a:rPr>
              <a:t>Le Chatelier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-ов принцип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Rectangle 9"/>
          <p:cNvGrpSpPr/>
          <p:nvPr/>
        </p:nvGrpSpPr>
        <p:grpSpPr>
          <a:xfrm>
            <a:off x="23760" y="4773600"/>
            <a:ext cx="9139320" cy="1548000"/>
            <a:chOff x="23760" y="4773600"/>
            <a:chExt cx="9139320" cy="1548000"/>
          </a:xfrm>
        </p:grpSpPr>
        <p:pic>
          <p:nvPicPr>
            <p:cNvPr id="413" name="Rectangle 9" descr=""/>
            <p:cNvPicPr/>
            <p:nvPr/>
          </p:nvPicPr>
          <p:blipFill>
            <a:blip r:embed="rId2"/>
            <a:stretch/>
          </p:blipFill>
          <p:spPr>
            <a:xfrm>
              <a:off x="23760" y="4773600"/>
              <a:ext cx="913932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" name=""/>
            <p:cNvSpPr/>
            <p:nvPr/>
          </p:nvSpPr>
          <p:spPr>
            <a:xfrm>
              <a:off x="182520" y="4846680"/>
              <a:ext cx="882036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</a:rPr>
                <a:t>Ако се систему који се налази у равнотежи промени неки од спољашњих услова, систем ће се супроставити промени да би успоставио ново равнотежно стањ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Text Box 7"/>
          <p:cNvSpPr/>
          <p:nvPr/>
        </p:nvSpPr>
        <p:spPr>
          <a:xfrm>
            <a:off x="182520" y="4114800"/>
            <a:ext cx="3884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c00000"/>
                </a:solidFill>
                <a:latin typeface="Times New Roman"/>
              </a:rPr>
              <a:t>1884.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године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 Le Chatelie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Rectangle 5"/>
          <p:cNvGrpSpPr/>
          <p:nvPr/>
        </p:nvGrpSpPr>
        <p:grpSpPr>
          <a:xfrm>
            <a:off x="122400" y="1616040"/>
            <a:ext cx="6168960" cy="865080"/>
            <a:chOff x="122400" y="1616040"/>
            <a:chExt cx="6168960" cy="865080"/>
          </a:xfrm>
        </p:grpSpPr>
        <p:pic>
          <p:nvPicPr>
            <p:cNvPr id="417" name="Rectangle 5" descr=""/>
            <p:cNvPicPr/>
            <p:nvPr/>
          </p:nvPicPr>
          <p:blipFill>
            <a:blip r:embed="rId1"/>
            <a:stretch/>
          </p:blipFill>
          <p:spPr>
            <a:xfrm>
              <a:off x="122400" y="1616040"/>
              <a:ext cx="616896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306000" y="1695600"/>
              <a:ext cx="58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помера се равнотежа, </a:t>
              </a:r>
              <a:r>
                <a:rPr b="1" lang="ru-RU" sz="2800" spc="-1" strike="noStrike">
                  <a:solidFill>
                    <a:srgbClr val="c00000"/>
                  </a:solidFill>
                  <a:latin typeface="Times New Roman"/>
                </a:rPr>
                <a:t>K</a:t>
              </a: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 се не мењ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19" name="Object 6"/>
              <p:cNvSpPr txBox="1"/>
              <p:nvPr/>
            </p:nvSpPr>
            <p:spPr>
              <a:xfrm>
                <a:off x="1979640" y="2432160"/>
                <a:ext cx="46483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3H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 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⇔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N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0" name="Text Box 7"/>
          <p:cNvSpPr/>
          <p:nvPr/>
        </p:nvSpPr>
        <p:spPr>
          <a:xfrm>
            <a:off x="917640" y="32590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8"/>
          <p:cNvSpPr/>
          <p:nvPr/>
        </p:nvSpPr>
        <p:spPr>
          <a:xfrm>
            <a:off x="914400" y="378936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9"/>
          <p:cNvSpPr/>
          <p:nvPr/>
        </p:nvSpPr>
        <p:spPr>
          <a:xfrm>
            <a:off x="2011320" y="3500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0"/>
          <p:cNvSpPr/>
          <p:nvPr/>
        </p:nvSpPr>
        <p:spPr>
          <a:xfrm>
            <a:off x="2011320" y="407664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1"/>
          <p:cNvSpPr/>
          <p:nvPr/>
        </p:nvSpPr>
        <p:spPr>
          <a:xfrm>
            <a:off x="917640" y="4365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"/>
          <p:cNvSpPr/>
          <p:nvPr/>
        </p:nvSpPr>
        <p:spPr>
          <a:xfrm flipH="1">
            <a:off x="2010960" y="4651200"/>
            <a:ext cx="1320840" cy="1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917640" y="494172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4"/>
          <p:cNvSpPr/>
          <p:nvPr/>
        </p:nvSpPr>
        <p:spPr>
          <a:xfrm flipH="1" flipV="1">
            <a:off x="2010960" y="5224320"/>
            <a:ext cx="1335240" cy="5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5"/>
          <p:cNvSpPr/>
          <p:nvPr/>
        </p:nvSpPr>
        <p:spPr>
          <a:xfrm>
            <a:off x="684360" y="551664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7"/>
          <p:cNvSpPr/>
          <p:nvPr/>
        </p:nvSpPr>
        <p:spPr>
          <a:xfrm>
            <a:off x="684360" y="6140520"/>
            <a:ext cx="1295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[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Text Box 19"/>
          <p:cNvGrpSpPr/>
          <p:nvPr/>
        </p:nvGrpSpPr>
        <p:grpSpPr>
          <a:xfrm>
            <a:off x="3846600" y="3157560"/>
            <a:ext cx="5089320" cy="1859040"/>
            <a:chOff x="3846600" y="3157560"/>
            <a:chExt cx="5089320" cy="1859040"/>
          </a:xfrm>
        </p:grpSpPr>
        <p:pic>
          <p:nvPicPr>
            <p:cNvPr id="431" name="Text Box 19" descr=""/>
            <p:cNvPicPr/>
            <p:nvPr/>
          </p:nvPicPr>
          <p:blipFill>
            <a:blip r:embed="rId2"/>
            <a:stretch/>
          </p:blipFill>
          <p:spPr>
            <a:xfrm>
              <a:off x="3846600" y="3157560"/>
              <a:ext cx="5089320" cy="185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2" name=""/>
            <p:cNvSpPr/>
            <p:nvPr/>
          </p:nvSpPr>
          <p:spPr>
            <a:xfrm>
              <a:off x="3995640" y="3227400"/>
              <a:ext cx="4791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десн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повећањем концентрације реактаната или смање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Text Box 20"/>
          <p:cNvGrpSpPr/>
          <p:nvPr/>
        </p:nvGrpSpPr>
        <p:grpSpPr>
          <a:xfrm>
            <a:off x="3852720" y="4962600"/>
            <a:ext cx="5046840" cy="1987920"/>
            <a:chOff x="3852720" y="4962600"/>
            <a:chExt cx="5046840" cy="1987920"/>
          </a:xfrm>
        </p:grpSpPr>
        <p:pic>
          <p:nvPicPr>
            <p:cNvPr id="434" name="Text Box 20" descr=""/>
            <p:cNvPicPr/>
            <p:nvPr/>
          </p:nvPicPr>
          <p:blipFill>
            <a:blip r:embed="rId3"/>
            <a:stretch/>
          </p:blipFill>
          <p:spPr>
            <a:xfrm>
              <a:off x="3852720" y="4962600"/>
              <a:ext cx="5046840" cy="18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"/>
            <p:cNvSpPr/>
            <p:nvPr/>
          </p:nvSpPr>
          <p:spPr>
            <a:xfrm>
              <a:off x="4003560" y="5027760"/>
              <a:ext cx="474516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Равнотежа се може померити </a:t>
              </a:r>
              <a:br>
                <a:rPr sz="2400"/>
              </a:br>
              <a:r>
                <a:rPr b="1" lang="ru-RU" sz="2400" spc="-1" strike="noStrike" u="sng">
                  <a:solidFill>
                    <a:srgbClr val="c00000"/>
                  </a:solidFill>
                  <a:uFillTx/>
                  <a:latin typeface="Times New Roman"/>
                </a:rPr>
                <a:t>у лево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</a:rPr>
                <a:t>смањењем концентрације реактаната или повећањем концентрације производа реакције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Line 14"/>
          <p:cNvSpPr/>
          <p:nvPr/>
        </p:nvSpPr>
        <p:spPr>
          <a:xfrm flipH="1" flipV="1">
            <a:off x="2010960" y="5800320"/>
            <a:ext cx="1335240" cy="4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0"/>
          <p:cNvSpPr/>
          <p:nvPr/>
        </p:nvSpPr>
        <p:spPr>
          <a:xfrm>
            <a:off x="2011320" y="638172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1"/>
          <p:cNvSpPr/>
          <p:nvPr/>
        </p:nvSpPr>
        <p:spPr>
          <a:xfrm>
            <a:off x="2622600" y="1027080"/>
            <a:ext cx="42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</a:rPr>
              <a:t>Промена концентрац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4"/>
          <p:cNvSpPr/>
          <p:nvPr/>
        </p:nvSpPr>
        <p:spPr>
          <a:xfrm>
            <a:off x="2639520" y="1052640"/>
            <a:ext cx="38095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мена температур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Rectangle 5"/>
          <p:cNvGrpSpPr/>
          <p:nvPr/>
        </p:nvGrpSpPr>
        <p:grpSpPr>
          <a:xfrm>
            <a:off x="115920" y="1847880"/>
            <a:ext cx="3870360" cy="779400"/>
            <a:chOff x="115920" y="1847880"/>
            <a:chExt cx="3870360" cy="779400"/>
          </a:xfrm>
        </p:grpSpPr>
        <p:pic>
          <p:nvPicPr>
            <p:cNvPr id="441" name="Rectangle 5" descr=""/>
            <p:cNvPicPr/>
            <p:nvPr/>
          </p:nvPicPr>
          <p:blipFill>
            <a:blip r:embed="rId1"/>
            <a:stretch/>
          </p:blipFill>
          <p:spPr>
            <a:xfrm>
              <a:off x="115920" y="1847880"/>
              <a:ext cx="387036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288720" y="1916280"/>
              <a:ext cx="35625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3" name="Object 6"/>
              <p:cNvSpPr txBox="1"/>
              <p:nvPr/>
            </p:nvSpPr>
            <p:spPr>
              <a:xfrm>
                <a:off x="1554120" y="2708280"/>
                <a:ext cx="505476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44" name="Text Box 7"/>
          <p:cNvSpPr/>
          <p:nvPr/>
        </p:nvSpPr>
        <p:spPr>
          <a:xfrm>
            <a:off x="6932520" y="2735280"/>
            <a:ext cx="1600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9"/>
          <p:cNvSpPr/>
          <p:nvPr/>
        </p:nvSpPr>
        <p:spPr>
          <a:xfrm>
            <a:off x="425520" y="3646440"/>
            <a:ext cx="8610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ећањем  Т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лев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0"/>
          <p:cNvSpPr/>
          <p:nvPr/>
        </p:nvSpPr>
        <p:spPr>
          <a:xfrm flipH="1">
            <a:off x="1188720" y="3887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1"/>
          <p:cNvSpPr/>
          <p:nvPr/>
        </p:nvSpPr>
        <p:spPr>
          <a:xfrm>
            <a:off x="425520" y="4319640"/>
            <a:ext cx="8424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</a:t>
            </a:r>
            <a:r>
              <a:rPr b="1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ењем Т  равнотежа се помера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десно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2"/>
          <p:cNvSpPr/>
          <p:nvPr/>
        </p:nvSpPr>
        <p:spPr>
          <a:xfrm>
            <a:off x="1189080" y="45356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3"/>
          <p:cNvSpPr/>
          <p:nvPr/>
        </p:nvSpPr>
        <p:spPr>
          <a:xfrm>
            <a:off x="3429000" y="56134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Text Box 14"/>
          <p:cNvGrpSpPr/>
          <p:nvPr/>
        </p:nvGrpSpPr>
        <p:grpSpPr>
          <a:xfrm>
            <a:off x="3571920" y="4943520"/>
            <a:ext cx="2085840" cy="780840"/>
            <a:chOff x="3571920" y="4943520"/>
            <a:chExt cx="2085840" cy="780840"/>
          </a:xfrm>
        </p:grpSpPr>
        <p:pic>
          <p:nvPicPr>
            <p:cNvPr id="451" name="Text Box 14" descr=""/>
            <p:cNvPicPr/>
            <p:nvPr/>
          </p:nvPicPr>
          <p:blipFill>
            <a:blip r:embed="rId2"/>
            <a:stretch/>
          </p:blipFill>
          <p:spPr>
            <a:xfrm>
              <a:off x="3571920" y="4943520"/>
              <a:ext cx="2085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2" name=""/>
            <p:cNvSpPr/>
            <p:nvPr/>
          </p:nvSpPr>
          <p:spPr>
            <a:xfrm>
              <a:off x="3657600" y="501336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гз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Line 15"/>
          <p:cNvSpPr/>
          <p:nvPr/>
        </p:nvSpPr>
        <p:spPr>
          <a:xfrm flipH="1">
            <a:off x="3429000" y="5842080"/>
            <a:ext cx="2449440" cy="3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Text Box 16"/>
          <p:cNvGrpSpPr/>
          <p:nvPr/>
        </p:nvGrpSpPr>
        <p:grpSpPr>
          <a:xfrm>
            <a:off x="3541680" y="5907240"/>
            <a:ext cx="2152800" cy="779400"/>
            <a:chOff x="3541680" y="5907240"/>
            <a:chExt cx="2152800" cy="779400"/>
          </a:xfrm>
        </p:grpSpPr>
        <p:pic>
          <p:nvPicPr>
            <p:cNvPr id="455" name="Text Box 16" descr=""/>
            <p:cNvPicPr/>
            <p:nvPr/>
          </p:nvPicPr>
          <p:blipFill>
            <a:blip r:embed="rId3"/>
            <a:stretch/>
          </p:blipFill>
          <p:spPr>
            <a:xfrm>
              <a:off x="3541680" y="5907240"/>
              <a:ext cx="215280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3657600" y="5977080"/>
              <a:ext cx="19209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ендотермн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Rectangle 4"/>
          <p:cNvGrpSpPr/>
          <p:nvPr/>
        </p:nvGrpSpPr>
        <p:grpSpPr>
          <a:xfrm>
            <a:off x="115920" y="1487520"/>
            <a:ext cx="3943440" cy="779400"/>
            <a:chOff x="115920" y="1487520"/>
            <a:chExt cx="3943440" cy="779400"/>
          </a:xfrm>
        </p:grpSpPr>
        <p:pic>
          <p:nvPicPr>
            <p:cNvPr id="458" name="Rectangle 4" descr=""/>
            <p:cNvPicPr/>
            <p:nvPr/>
          </p:nvPicPr>
          <p:blipFill>
            <a:blip r:embed="rId1"/>
            <a:stretch/>
          </p:blipFill>
          <p:spPr>
            <a:xfrm>
              <a:off x="115920" y="1487520"/>
              <a:ext cx="3943440" cy="77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276120" y="1557360"/>
              <a:ext cx="3649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б</a:t>
              </a:r>
              <a:r>
                <a:rPr b="1" lang="sr-Latn-CS" sz="2500" spc="-1" strike="noStrike">
                  <a:solidFill>
                    <a:srgbClr val="000000"/>
                  </a:solidFill>
                  <a:latin typeface="Times New Roman"/>
                </a:rPr>
                <a:t>) </a:t>
              </a:r>
              <a:r>
                <a:rPr b="1" lang="en-US" sz="2500" spc="-1" strike="noStrike">
                  <a:solidFill>
                    <a:srgbClr val="000000"/>
                  </a:solidFill>
                  <a:latin typeface="Times New Roman"/>
                </a:rPr>
                <a:t>Ендотермна реакција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0" name="Object 6"/>
              <p:cNvSpPr txBox="1"/>
              <p:nvPr/>
            </p:nvSpPr>
            <p:spPr>
              <a:xfrm>
                <a:off x="2100240" y="263700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7"/>
          <p:cNvSpPr/>
          <p:nvPr/>
        </p:nvSpPr>
        <p:spPr>
          <a:xfrm>
            <a:off x="6372360" y="270360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8"/>
          <p:cNvSpPr/>
          <p:nvPr/>
        </p:nvSpPr>
        <p:spPr>
          <a:xfrm flipH="1">
            <a:off x="1258560" y="505944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93560" y="4799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мање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лев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0"/>
          <p:cNvSpPr/>
          <p:nvPr/>
        </p:nvSpPr>
        <p:spPr>
          <a:xfrm>
            <a:off x="1258920" y="41958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4"/>
          <p:cNvSpPr/>
          <p:nvPr/>
        </p:nvSpPr>
        <p:spPr>
          <a:xfrm>
            <a:off x="468360" y="3979800"/>
            <a:ext cx="81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598760"/>
                <a:tab algn="l" pos="2058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већањем Т  равнотежа се помера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у дес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3"/>
          <p:cNvSpPr/>
          <p:nvPr/>
        </p:nvSpPr>
        <p:spPr>
          <a:xfrm>
            <a:off x="182520" y="981000"/>
            <a:ext cx="8686800" cy="26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налази се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рачунати процентну концентрацију раствора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2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%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79280" y="3840120"/>
            <a:ext cx="8607600" cy="30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 растворено је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g NaCl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нтну концентрацију раствора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5 g + 25 g = 3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5 g NaCl = 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 X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6,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6,6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%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3"/>
          <p:cNvSpPr/>
          <p:nvPr/>
        </p:nvSpPr>
        <p:spPr>
          <a:xfrm>
            <a:off x="5394240" y="3263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Notched Right Arrow 4"/>
          <p:cNvSpPr/>
          <p:nvPr/>
        </p:nvSpPr>
        <p:spPr>
          <a:xfrm>
            <a:off x="4621320" y="6049800"/>
            <a:ext cx="365040" cy="136800"/>
          </a:xfrm>
          <a:custGeom>
            <a:avLst/>
            <a:gdLst>
              <a:gd name="textAreaLeft" fmla="*/ 33840 w 365040"/>
              <a:gd name="textAreaRight" fmla="*/ 331200 w 3650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62" y="5400"/>
                </a:lnTo>
                <a:lnTo>
                  <a:pt x="17562" y="0"/>
                </a:lnTo>
                <a:lnTo>
                  <a:pt x="21600" y="10800"/>
                </a:lnTo>
                <a:lnTo>
                  <a:pt x="17562" y="21600"/>
                </a:lnTo>
                <a:lnTo>
                  <a:pt x="17562" y="16200"/>
                </a:lnTo>
                <a:lnTo>
                  <a:pt x="0" y="16200"/>
                </a:lnTo>
                <a:lnTo>
                  <a:pt x="2019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4"/>
          <p:cNvSpPr/>
          <p:nvPr/>
        </p:nvSpPr>
        <p:spPr>
          <a:xfrm>
            <a:off x="2826720" y="1125360"/>
            <a:ext cx="331560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омена притис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Object 2"/>
              <p:cNvSpPr txBox="1"/>
              <p:nvPr/>
            </p:nvSpPr>
            <p:spPr>
              <a:xfrm>
                <a:off x="1835280" y="1981080"/>
                <a:ext cx="50544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H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N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⇔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468" name="Text Box 7"/>
          <p:cNvSpPr/>
          <p:nvPr/>
        </p:nvSpPr>
        <p:spPr>
          <a:xfrm>
            <a:off x="971640" y="4057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9" name="Straight Arrow Connector 7"/>
          <p:cNvCxnSpPr/>
          <p:nvPr/>
        </p:nvCxnSpPr>
        <p:spPr>
          <a:xfrm>
            <a:off x="1646280" y="436248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70" name="Text Box 7"/>
          <p:cNvSpPr/>
          <p:nvPr/>
        </p:nvSpPr>
        <p:spPr>
          <a:xfrm>
            <a:off x="955800" y="5353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1" name="Straight Arrow Connector 9"/>
          <p:cNvCxnSpPr/>
          <p:nvPr/>
        </p:nvCxnSpPr>
        <p:spPr>
          <a:xfrm flipH="1" flipV="1">
            <a:off x="1641240" y="55814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72" name="TextBox 11"/>
          <p:cNvGrpSpPr/>
          <p:nvPr/>
        </p:nvGrpSpPr>
        <p:grpSpPr>
          <a:xfrm>
            <a:off x="2682720" y="3749760"/>
            <a:ext cx="6205680" cy="1492200"/>
            <a:chOff x="2682720" y="3749760"/>
            <a:chExt cx="6205680" cy="1492200"/>
          </a:xfrm>
        </p:grpSpPr>
        <p:pic>
          <p:nvPicPr>
            <p:cNvPr id="473" name="TextBox 11" descr=""/>
            <p:cNvPicPr/>
            <p:nvPr/>
          </p:nvPicPr>
          <p:blipFill>
            <a:blip r:embed="rId1"/>
            <a:stretch/>
          </p:blipFill>
          <p:spPr>
            <a:xfrm>
              <a:off x="2682720" y="3749760"/>
              <a:ext cx="6205680" cy="149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" name=""/>
            <p:cNvSpPr/>
            <p:nvPr/>
          </p:nvSpPr>
          <p:spPr>
            <a:xfrm>
              <a:off x="2835360" y="3816360"/>
              <a:ext cx="58989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већа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мањ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мањ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TextBox 12"/>
          <p:cNvGrpSpPr/>
          <p:nvPr/>
        </p:nvGrpSpPr>
        <p:grpSpPr>
          <a:xfrm>
            <a:off x="2682720" y="5114880"/>
            <a:ext cx="6212160" cy="1494000"/>
            <a:chOff x="2682720" y="5114880"/>
            <a:chExt cx="6212160" cy="1494000"/>
          </a:xfrm>
        </p:grpSpPr>
        <p:pic>
          <p:nvPicPr>
            <p:cNvPr id="476" name="TextBox 12" descr=""/>
            <p:cNvPicPr/>
            <p:nvPr/>
          </p:nvPicPr>
          <p:blipFill>
            <a:blip r:embed="rId2"/>
            <a:stretch/>
          </p:blipFill>
          <p:spPr>
            <a:xfrm>
              <a:off x="2682720" y="5114880"/>
              <a:ext cx="621216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"/>
            <p:cNvSpPr/>
            <p:nvPr/>
          </p:nvSpPr>
          <p:spPr>
            <a:xfrm>
              <a:off x="2835360" y="5184720"/>
              <a:ext cx="590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мањењем притиска равнотежа се помера на страну </a:t>
              </a:r>
              <a:r>
                <a:rPr b="0" lang="ru-RU" sz="2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еће запремине</a:t>
              </a: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(већег броја молова)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Right Brace 13"/>
          <p:cNvSpPr/>
          <p:nvPr/>
        </p:nvSpPr>
        <p:spPr>
          <a:xfrm rot="5400000">
            <a:off x="2939400" y="1409400"/>
            <a:ext cx="457200" cy="25146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514600"/>
              <a:gd name="textAreaBottom" fmla="*/ 250272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4"/>
                  <a:pt x="10800" y="327"/>
                </a:cubicBezTo>
                <a:lnTo>
                  <a:pt x="10800" y="10473"/>
                </a:lnTo>
                <a:cubicBezTo>
                  <a:pt x="10800" y="10637"/>
                  <a:pt x="16200" y="10800"/>
                  <a:pt x="21600" y="10800"/>
                </a:cubicBezTo>
                <a:cubicBezTo>
                  <a:pt x="16200" y="10800"/>
                  <a:pt x="10800" y="10964"/>
                  <a:pt x="10800" y="11127"/>
                </a:cubicBezTo>
                <a:lnTo>
                  <a:pt x="10800" y="21273"/>
                </a:lnTo>
                <a:cubicBezTo>
                  <a:pt x="10800" y="2143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ight Brace 14"/>
          <p:cNvSpPr/>
          <p:nvPr/>
        </p:nvSpPr>
        <p:spPr>
          <a:xfrm rot="5400000">
            <a:off x="5607000" y="1942920"/>
            <a:ext cx="457200" cy="144792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447920"/>
              <a:gd name="textAreaBottom" fmla="*/ 14360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84"/>
                  <a:pt x="10800" y="568"/>
                </a:cubicBezTo>
                <a:lnTo>
                  <a:pt x="10800" y="10232"/>
                </a:lnTo>
                <a:cubicBezTo>
                  <a:pt x="10800" y="10516"/>
                  <a:pt x="16200" y="10800"/>
                  <a:pt x="21600" y="10800"/>
                </a:cubicBezTo>
                <a:cubicBezTo>
                  <a:pt x="16200" y="10800"/>
                  <a:pt x="10800" y="11084"/>
                  <a:pt x="10800" y="11368"/>
                </a:cubicBezTo>
                <a:lnTo>
                  <a:pt x="10800" y="21032"/>
                </a:lnTo>
                <a:cubicBezTo>
                  <a:pt x="10800" y="21316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TextBox 15"/>
          <p:cNvGrpSpPr/>
          <p:nvPr/>
        </p:nvGrpSpPr>
        <p:grpSpPr>
          <a:xfrm>
            <a:off x="2670120" y="2889360"/>
            <a:ext cx="981000" cy="865080"/>
            <a:chOff x="2670120" y="2889360"/>
            <a:chExt cx="981000" cy="865080"/>
          </a:xfrm>
        </p:grpSpPr>
        <p:pic>
          <p:nvPicPr>
            <p:cNvPr id="481" name="TextBox 15" descr=""/>
            <p:cNvPicPr/>
            <p:nvPr/>
          </p:nvPicPr>
          <p:blipFill>
            <a:blip r:embed="rId3"/>
            <a:stretch/>
          </p:blipFill>
          <p:spPr>
            <a:xfrm>
              <a:off x="2670120" y="2889360"/>
              <a:ext cx="9810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2" name=""/>
            <p:cNvSpPr/>
            <p:nvPr/>
          </p:nvSpPr>
          <p:spPr>
            <a:xfrm>
              <a:off x="2743200" y="297180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3" name="TextBox 16"/>
          <p:cNvGrpSpPr/>
          <p:nvPr/>
        </p:nvGrpSpPr>
        <p:grpSpPr>
          <a:xfrm>
            <a:off x="5321160" y="2889360"/>
            <a:ext cx="982800" cy="865080"/>
            <a:chOff x="5321160" y="2889360"/>
            <a:chExt cx="982800" cy="865080"/>
          </a:xfrm>
        </p:grpSpPr>
        <p:pic>
          <p:nvPicPr>
            <p:cNvPr id="484" name="TextBox 16" descr=""/>
            <p:cNvPicPr/>
            <p:nvPr/>
          </p:nvPicPr>
          <p:blipFill>
            <a:blip r:embed="rId4"/>
            <a:stretch/>
          </p:blipFill>
          <p:spPr>
            <a:xfrm>
              <a:off x="5321160" y="2889360"/>
              <a:ext cx="98280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5394240" y="2971800"/>
              <a:ext cx="838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86" name="Object 2"/>
              <p:cNvSpPr txBox="1"/>
              <p:nvPr/>
            </p:nvSpPr>
            <p:spPr>
              <a:xfrm>
                <a:off x="5970600" y="426420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Object 3"/>
              <p:cNvSpPr txBox="1"/>
              <p:nvPr/>
            </p:nvSpPr>
            <p:spPr>
              <a:xfrm>
                <a:off x="2293920" y="1704960"/>
                <a:ext cx="382284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2N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8" name="Right Brace 3"/>
          <p:cNvSpPr/>
          <p:nvPr/>
        </p:nvSpPr>
        <p:spPr>
          <a:xfrm rot="5400000">
            <a:off x="2941200" y="1514160"/>
            <a:ext cx="457200" cy="205740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2057400"/>
              <a:gd name="textAreaBottom" fmla="*/ 204552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00"/>
                  <a:pt x="10800" y="400"/>
                </a:cubicBezTo>
                <a:lnTo>
                  <a:pt x="10800" y="10400"/>
                </a:lnTo>
                <a:cubicBezTo>
                  <a:pt x="10800" y="10600"/>
                  <a:pt x="16200" y="10800"/>
                  <a:pt x="21600" y="10800"/>
                </a:cubicBezTo>
                <a:cubicBezTo>
                  <a:pt x="16200" y="10800"/>
                  <a:pt x="10800" y="11000"/>
                  <a:pt x="10800" y="11200"/>
                </a:cubicBezTo>
                <a:lnTo>
                  <a:pt x="10800" y="21200"/>
                </a:lnTo>
                <a:cubicBezTo>
                  <a:pt x="10800" y="214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ight Brace 4"/>
          <p:cNvSpPr/>
          <p:nvPr/>
        </p:nvSpPr>
        <p:spPr>
          <a:xfrm rot="5400000">
            <a:off x="5207040" y="1943280"/>
            <a:ext cx="457200" cy="1295280"/>
          </a:xfrm>
          <a:custGeom>
            <a:avLst/>
            <a:gdLst>
              <a:gd name="textAreaLeft" fmla="*/ 0 w 457200"/>
              <a:gd name="textAreaRight" fmla="*/ 164880 w 457200"/>
              <a:gd name="textAreaTop" fmla="*/ 11880 h 1295280"/>
              <a:gd name="textAreaBottom" fmla="*/ 12834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8"/>
                  <a:pt x="10800" y="635"/>
                </a:cubicBezTo>
                <a:lnTo>
                  <a:pt x="10800" y="10165"/>
                </a:lnTo>
                <a:cubicBezTo>
                  <a:pt x="10800" y="10483"/>
                  <a:pt x="16200" y="10800"/>
                  <a:pt x="21600" y="10800"/>
                </a:cubicBezTo>
                <a:cubicBezTo>
                  <a:pt x="16200" y="10800"/>
                  <a:pt x="10800" y="11118"/>
                  <a:pt x="10800" y="11435"/>
                </a:cubicBezTo>
                <a:lnTo>
                  <a:pt x="10800" y="20965"/>
                </a:lnTo>
                <a:cubicBezTo>
                  <a:pt x="10800" y="2128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TextBox 5"/>
          <p:cNvGrpSpPr/>
          <p:nvPr/>
        </p:nvGrpSpPr>
        <p:grpSpPr>
          <a:xfrm>
            <a:off x="2670120" y="2840040"/>
            <a:ext cx="981000" cy="866880"/>
            <a:chOff x="2670120" y="2840040"/>
            <a:chExt cx="981000" cy="866880"/>
          </a:xfrm>
        </p:grpSpPr>
        <p:pic>
          <p:nvPicPr>
            <p:cNvPr id="491" name="TextBox 5" descr=""/>
            <p:cNvPicPr/>
            <p:nvPr/>
          </p:nvPicPr>
          <p:blipFill>
            <a:blip r:embed="rId1"/>
            <a:stretch/>
          </p:blipFill>
          <p:spPr>
            <a:xfrm>
              <a:off x="2670120" y="2840040"/>
              <a:ext cx="98100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2" name=""/>
            <p:cNvSpPr/>
            <p:nvPr/>
          </p:nvSpPr>
          <p:spPr>
            <a:xfrm>
              <a:off x="2743200" y="292428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" name="TextBox 6"/>
          <p:cNvGrpSpPr/>
          <p:nvPr/>
        </p:nvGrpSpPr>
        <p:grpSpPr>
          <a:xfrm>
            <a:off x="4943520" y="2840040"/>
            <a:ext cx="981000" cy="873000"/>
            <a:chOff x="4943520" y="2840040"/>
            <a:chExt cx="981000" cy="873000"/>
          </a:xfrm>
        </p:grpSpPr>
        <p:pic>
          <p:nvPicPr>
            <p:cNvPr id="494" name="TextBox 6" descr=""/>
            <p:cNvPicPr/>
            <p:nvPr/>
          </p:nvPicPr>
          <p:blipFill>
            <a:blip r:embed="rId2"/>
            <a:stretch/>
          </p:blipFill>
          <p:spPr>
            <a:xfrm>
              <a:off x="4943520" y="2840040"/>
              <a:ext cx="98100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5" name=""/>
            <p:cNvSpPr/>
            <p:nvPr/>
          </p:nvSpPr>
          <p:spPr>
            <a:xfrm>
              <a:off x="5016600" y="29257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V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TextBox 7"/>
          <p:cNvGrpSpPr/>
          <p:nvPr/>
        </p:nvGrpSpPr>
        <p:grpSpPr>
          <a:xfrm>
            <a:off x="298440" y="4290840"/>
            <a:ext cx="7705800" cy="787680"/>
            <a:chOff x="298440" y="4290840"/>
            <a:chExt cx="7705800" cy="787680"/>
          </a:xfrm>
        </p:grpSpPr>
        <p:pic>
          <p:nvPicPr>
            <p:cNvPr id="497" name="TextBox 7" descr=""/>
            <p:cNvPicPr/>
            <p:nvPr/>
          </p:nvPicPr>
          <p:blipFill>
            <a:blip r:embed="rId3"/>
            <a:stretch/>
          </p:blipFill>
          <p:spPr>
            <a:xfrm>
              <a:off x="298440" y="4290840"/>
              <a:ext cx="7705800" cy="78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"/>
            <p:cNvSpPr/>
            <p:nvPr/>
          </p:nvSpPr>
          <p:spPr>
            <a:xfrm>
              <a:off x="457200" y="4365720"/>
              <a:ext cx="748836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ромена притиска не утиче на пометање равнотеже.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4"/>
          <p:cNvSpPr/>
          <p:nvPr/>
        </p:nvSpPr>
        <p:spPr>
          <a:xfrm>
            <a:off x="2484360" y="1166760"/>
            <a:ext cx="41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Присуство катализат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Box 2"/>
          <p:cNvSpPr/>
          <p:nvPr/>
        </p:nvSpPr>
        <p:spPr>
          <a:xfrm>
            <a:off x="182520" y="1989000"/>
            <a:ext cx="84218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катализатора условљава брже успостављање 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равнотеж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константе равнотеже (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се не мењ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1" name="TextBox 4"/>
          <p:cNvGrpSpPr/>
          <p:nvPr/>
        </p:nvGrpSpPr>
        <p:grpSpPr>
          <a:xfrm>
            <a:off x="4419720" y="4224240"/>
            <a:ext cx="4627440" cy="1494000"/>
            <a:chOff x="4419720" y="4224240"/>
            <a:chExt cx="4627440" cy="1494000"/>
          </a:xfrm>
        </p:grpSpPr>
        <p:pic>
          <p:nvPicPr>
            <p:cNvPr id="502" name="TextBox 4" descr=""/>
            <p:cNvPicPr/>
            <p:nvPr/>
          </p:nvPicPr>
          <p:blipFill>
            <a:blip r:embed="rId1"/>
            <a:stretch/>
          </p:blipFill>
          <p:spPr>
            <a:xfrm>
              <a:off x="4419720" y="4224240"/>
              <a:ext cx="4627440" cy="149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"/>
            <p:cNvSpPr/>
            <p:nvPr/>
          </p:nvSpPr>
          <p:spPr>
            <a:xfrm>
              <a:off x="4572000" y="4292640"/>
              <a:ext cx="432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атализатори убрзавају и директну и повратну хемијску реакцију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4" name="Picture 6" descr="C:\Users\Maca\Desktop\kataliz.png"/>
          <p:cNvPicPr/>
          <p:nvPr/>
        </p:nvPicPr>
        <p:blipFill>
          <a:blip r:embed="rId2"/>
          <a:stretch/>
        </p:blipFill>
        <p:spPr>
          <a:xfrm>
            <a:off x="539640" y="3429000"/>
            <a:ext cx="37054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ounded Rectangle 4"/>
          <p:cNvSpPr/>
          <p:nvPr/>
        </p:nvSpPr>
        <p:spPr>
          <a:xfrm>
            <a:off x="1547640" y="1190520"/>
            <a:ext cx="621828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110520" bIns="110520" anchor="ctr">
            <a:noAutofit/>
          </a:bodyPr>
          <a:p>
            <a:pPr algn="ctr">
              <a:lnSpc>
                <a:spcPct val="90000"/>
              </a:lnSpc>
              <a:spcAft>
                <a:spcPts val="1225"/>
              </a:spcAft>
              <a:tabLst>
                <a:tab algn="l" pos="0"/>
                <a:tab algn="l" pos="1289160"/>
                <a:tab algn="l" pos="2577960"/>
                <a:tab algn="l" pos="3867120"/>
                <a:tab algn="l" pos="5156280"/>
                <a:tab algn="l" pos="6445080"/>
                <a:tab algn="l" pos="7734240"/>
                <a:tab algn="l" pos="9023400"/>
                <a:tab algn="l" pos="1031256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 у  хетерогеном  сист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6"/>
          <p:cNvGrpSpPr/>
          <p:nvPr/>
        </p:nvGrpSpPr>
        <p:grpSpPr>
          <a:xfrm>
            <a:off x="1455840" y="3432240"/>
            <a:ext cx="2971800" cy="1179360"/>
            <a:chOff x="1455840" y="3432240"/>
            <a:chExt cx="2971800" cy="1179360"/>
          </a:xfrm>
        </p:grpSpPr>
        <p:sp>
          <p:nvSpPr>
            <p:cNvPr id="507" name="Text Box 4"/>
            <p:cNvSpPr/>
            <p:nvPr/>
          </p:nvSpPr>
          <p:spPr>
            <a:xfrm>
              <a:off x="1455840" y="3584520"/>
              <a:ext cx="2971800" cy="90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O] [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=  ––––––––––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CaCO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6"/>
            <p:cNvSpPr/>
            <p:nvPr/>
          </p:nvSpPr>
          <p:spPr>
            <a:xfrm>
              <a:off x="1505160" y="3476520"/>
              <a:ext cx="2770200" cy="11350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7"/>
            <p:cNvSpPr/>
            <p:nvPr/>
          </p:nvSpPr>
          <p:spPr>
            <a:xfrm flipV="1">
              <a:off x="1505160" y="3432240"/>
              <a:ext cx="2770200" cy="1062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" name="Text Box 5"/>
          <p:cNvSpPr/>
          <p:nvPr/>
        </p:nvSpPr>
        <p:spPr>
          <a:xfrm>
            <a:off x="5208480" y="3584520"/>
            <a:ext cx="221004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= [CO</a:t>
            </a:r>
            <a:r>
              <a:rPr b="1" lang="en-US" sz="3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3441600" y="51786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2" name="Straight Arrow Connector 10"/>
          <p:cNvCxnSpPr/>
          <p:nvPr/>
        </p:nvCxnSpPr>
        <p:spPr>
          <a:xfrm flipH="1" flipV="1">
            <a:off x="4206600" y="54068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13" name="Text Box 7"/>
          <p:cNvSpPr/>
          <p:nvPr/>
        </p:nvSpPr>
        <p:spPr>
          <a:xfrm>
            <a:off x="3441600" y="58644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4" name="Straight Arrow Connector 12"/>
          <p:cNvCxnSpPr/>
          <p:nvPr/>
        </p:nvCxnSpPr>
        <p:spPr>
          <a:xfrm flipV="1">
            <a:off x="4206960" y="609264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graphicFrame>
        <p:nvGraphicFramePr>
          <p:cNvPr id="515" name="Object 15"/>
          <p:cNvGraphicFramePr/>
          <p:nvPr/>
        </p:nvGraphicFramePr>
        <p:xfrm>
          <a:off x="1506600" y="2390760"/>
          <a:ext cx="613080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6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6600" y="2390760"/>
                    <a:ext cx="613080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Box 3"/>
          <p:cNvSpPr/>
          <p:nvPr/>
        </p:nvSpPr>
        <p:spPr>
          <a:xfrm>
            <a:off x="1258920" y="12272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ловна (привидна) константа равноте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8" name="Object 3"/>
          <p:cNvGraphicFramePr/>
          <p:nvPr/>
        </p:nvGraphicFramePr>
        <p:xfrm>
          <a:off x="2698920" y="2421000"/>
          <a:ext cx="3241440" cy="46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98920" y="2421000"/>
                    <a:ext cx="3241440" cy="46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0" name="Object 4"/>
          <p:cNvGraphicFramePr/>
          <p:nvPr/>
        </p:nvGraphicFramePr>
        <p:xfrm>
          <a:off x="3132000" y="3108240"/>
          <a:ext cx="2286000" cy="113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32000" y="3108240"/>
                    <a:ext cx="2286000" cy="113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2" name="TextBox 9"/>
          <p:cNvSpPr/>
          <p:nvPr/>
        </p:nvSpPr>
        <p:spPr>
          <a:xfrm>
            <a:off x="179280" y="4749840"/>
            <a:ext cx="88934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 у раствору присутне супстанце које на било који начин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реагују са супстанцама A, B, C или D смањиваће се њихова концентрација у раствору, што ће утицати на положај равнотеже  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е хемијске реакције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34920" y="1076400"/>
            <a:ext cx="91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тежне концентрације се у том случају могу изразити укупним концентрацијама помноженим одговарајућим коефицијентима мањим од јединиц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7"/>
          <p:cNvSpPr/>
          <p:nvPr/>
        </p:nvSpPr>
        <p:spPr>
          <a:xfrm>
            <a:off x="108000" y="4581360"/>
            <a:ext cx="896472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словна (привидна) константа равноте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укупна концентрација супстанце А у свим њеним облицима 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раствору (изузев оног који је реаговао са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коефицијент који зависи од различитих фактора (конц. 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или других супстанци са којима А ступа у споредне реак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914400" y="2349360"/>
            <a:ext cx="5505480" cy="21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Box 1"/>
          <p:cNvSpPr/>
          <p:nvPr/>
        </p:nvSpPr>
        <p:spPr>
          <a:xfrm>
            <a:off x="182520" y="1773360"/>
            <a:ext cx="864072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на (привидна) константа равнотеже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'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 зависи о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е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е силе раствор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е и концентрације супстанци присутних у раствору, а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које ступају у споредне реакције са главним реактантима или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роизводима реак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179280" y="1413000"/>
            <a:ext cx="8640720" cy="28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олико грам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колико грама воде је потребно за припремање 15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15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:  X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2,5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800" spc="-1" strike="noStrike" baseline="-5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– 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5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7,5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g</a:t>
            </a:r>
            <a:r>
              <a:rPr b="0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68360" y="1196640"/>
            <a:ext cx="4680000" cy="369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концентрација </a:t>
            </a:r>
            <a:r>
              <a:rPr b="1" lang="sr-Latn-B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c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Rectangle 8"/>
          <p:cNvSpPr/>
          <p:nvPr/>
        </p:nvSpPr>
        <p:spPr>
          <a:xfrm>
            <a:off x="182520" y="1643040"/>
            <a:ext cx="60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чина растворене супстанце -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мина раствора -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m</a:t>
            </a:r>
            <a:r>
              <a:rPr b="0" lang="sr-Latn-C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9"/>
          <p:cNvSpPr/>
          <p:nvPr/>
        </p:nvSpPr>
        <p:spPr>
          <a:xfrm>
            <a:off x="142920" y="5572080"/>
            <a:ext cx="8715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i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/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ларит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број молова растворене супстанце у 1 </a:t>
            </a:r>
            <a:r>
              <a:rPr b="1" lang="sr-Latn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dm</a:t>
            </a:r>
            <a:r>
              <a:rPr b="1" lang="sr-Latn-CS" sz="2800" spc="-1" strike="noStrike" u="sng" baseline="30000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3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 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10" descr=""/>
          <p:cNvPicPr/>
          <p:nvPr/>
        </p:nvPicPr>
        <p:blipFill>
          <a:blip r:embed="rId1"/>
          <a:stretch/>
        </p:blipFill>
        <p:spPr>
          <a:xfrm>
            <a:off x="457200" y="2743200"/>
            <a:ext cx="7342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365040" y="1371600"/>
            <a:ext cx="3676680" cy="1373760"/>
          </a:xfrm>
          <a:prstGeom prst="rect">
            <a:avLst/>
          </a:prstGeom>
          <a:noFill/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 =  1000 m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1000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"/>
          <p:cNvSpPr/>
          <p:nvPr/>
        </p:nvSpPr>
        <p:spPr>
          <a:xfrm>
            <a:off x="155520" y="2924280"/>
            <a:ext cx="90108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Израчунати моларну концентрацију 2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NaCl) = 23 + 35,5 = 58,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2 g NaCl = 10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20 g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58,5 g NaCl = X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20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 N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0,34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,34 M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Na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5486400" y="914400"/>
            <a:ext cx="2895480" cy="2276640"/>
          </a:xfrm>
          <a:prstGeom prst="rect">
            <a:avLst/>
          </a:prstGeom>
          <a:ln w="0">
            <a:noFill/>
          </a:ln>
        </p:spPr>
      </p:pic>
      <p:sp>
        <p:nvSpPr>
          <p:cNvPr id="224" name="Notched Right Arrow 5"/>
          <p:cNvSpPr/>
          <p:nvPr/>
        </p:nvSpPr>
        <p:spPr>
          <a:xfrm>
            <a:off x="4205160" y="6172200"/>
            <a:ext cx="366840" cy="138240"/>
          </a:xfrm>
          <a:custGeom>
            <a:avLst/>
            <a:gdLst>
              <a:gd name="textAreaLeft" fmla="*/ 34560 w 366840"/>
              <a:gd name="textAreaRight" fmla="*/ 332280 w 366840"/>
              <a:gd name="textAreaTop" fmla="*/ 34560 h 138240"/>
              <a:gd name="textAreaBottom" fmla="*/ 103680 h 13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32" y="5400"/>
                </a:lnTo>
                <a:lnTo>
                  <a:pt x="17532" y="0"/>
                </a:lnTo>
                <a:lnTo>
                  <a:pt x="21600" y="10800"/>
                </a:lnTo>
                <a:lnTo>
                  <a:pt x="17532" y="21600"/>
                </a:lnTo>
                <a:lnTo>
                  <a:pt x="17532" y="16200"/>
                </a:lnTo>
                <a:lnTo>
                  <a:pt x="0" y="16200"/>
                </a:lnTo>
                <a:lnTo>
                  <a:pt x="2034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182520" y="1557360"/>
            <a:ext cx="900108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Израчунати моларну концентрацију 96% раствора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с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 (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 1000 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84 g/c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840 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X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766 g 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98 g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X m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6 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 mol/dm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8 M</a:t>
            </a:r>
            <a:r>
              <a:rPr b="0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раство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O</a:t>
            </a:r>
            <a:r>
              <a:rPr b="0" lang="sr-Latn-C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4</a:t>
            </a: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Notched Right Arrow 2"/>
          <p:cNvSpPr/>
          <p:nvPr/>
        </p:nvSpPr>
        <p:spPr>
          <a:xfrm>
            <a:off x="4809960" y="5468760"/>
            <a:ext cx="366840" cy="13680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nstanti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843280" y="1108080"/>
            <a:ext cx="44654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концентрација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(</a:t>
            </a:r>
            <a:r>
              <a:rPr b="1" i="1" lang="el-GR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γ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7" descr=""/>
          <p:cNvPicPr/>
          <p:nvPr/>
        </p:nvPicPr>
        <p:blipFill>
          <a:blip r:embed="rId1"/>
          <a:stretch/>
        </p:blipFill>
        <p:spPr>
          <a:xfrm>
            <a:off x="274680" y="2193840"/>
            <a:ext cx="8717040" cy="2013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182520" y="4937040"/>
            <a:ext cx="896148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асена </a:t>
            </a: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однос маса растворене супстанце и </a:t>
            </a:r>
            <a:r>
              <a:rPr b="1" lang="sr-CS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запремине </a:t>
            </a:r>
            <a:r>
              <a:rPr b="1" lang="ru-RU" sz="2800" spc="-1" strike="noStrike" u="sng">
                <a:solidFill>
                  <a:srgbClr val="0b5395"/>
                </a:solidFill>
                <a:uFillTx/>
                <a:latin typeface="Times New Roman"/>
                <a:ea typeface="Times New Roman"/>
              </a:rPr>
              <a:t>раств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Jelena Stepanović</cp:lastModifiedBy>
  <dcterms:modified xsi:type="dcterms:W3CDTF">2017-09-05T13:41:23Z</dcterms:modified>
  <cp:revision>443</cp:revision>
  <dc:subject/>
  <dc:title>Slide 1</dc:title>
</cp:coreProperties>
</file>